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059A-2586-49B2-8ADC-FE4FE0D7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DC3-43BA-45CD-B13D-07F8EE4F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5F8-F7AB-43F7-8AD3-CEEBEB69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28E6-3678-41EA-B05E-E5FC64E8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3AA7-8C5B-4109-8E0A-F921356F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E3AF-DB3B-45F5-AEF6-9779BEC9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D867-AD52-456C-9D6A-72127A1A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F603-E10F-4DDB-969F-08A78843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2B2F-057A-4E23-BE69-D75C3AF6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4BA6-FCCE-4326-B8ED-32A983A5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7E11-E831-4F0D-B947-C99D8B62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BEA-90B2-4FE2-83CA-DC3440A3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5729-C4A4-48B5-87F5-3281ED2F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4AEE-AB5C-44E8-8043-5D20FB2E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2F2D-ABCB-4F44-B789-E663A48E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CBF6-8FFE-44CC-8150-C6A67F68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FC45-5404-4F6F-80DD-95327C9C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D4EAC-BE43-497D-9725-AD8D2D82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ECDED-6B65-471D-B258-7A4575A2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44DA4-1CB7-41A9-A2C6-877B222A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8235C-AFED-45EE-A331-943E27EB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31E55-AEA9-4A6D-AFEB-4C96685D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B926-2D20-4581-B7C1-D70BB347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215C2-6DE7-4E37-9DAD-3454BCAA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232E1-FC52-423E-A630-BD0A65EB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2ABE1-4A0B-4278-A56C-FD40BB58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56E36-A539-498D-8CEC-9E5BE5DD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B372B-02F0-4FD8-94F6-88A6D541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79611-AA4D-42D0-81A4-0540143D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13C68A-1369-4B92-8F76-EA297E3A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6A569-FCB2-47EB-8FFC-4890FFB7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7DCEE-F4EE-4F61-B816-5A091F07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27F01-C2F2-4789-9560-12752777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C75-874A-439E-B500-CCE2F5E2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5804D-0E69-40EF-825B-D9A25F41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70D76-1D4D-4F06-A69E-0B42DD16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2FC3C-8099-4F4B-A448-20CE6E95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5BE2-E50A-44D9-92A0-96F64036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18581-2DB5-433F-B57F-54AEB43A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EE84B-8D7B-47EE-BCC0-BD2700C8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84F99-824F-4DCE-89D1-BC023C3D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AFDDA-A172-4999-B327-C2B001B0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2A1DA-092F-4313-9A90-2A19BA5B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26F3D1-F508-4725-816B-D36E2BB4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BF8-F2EC-41F3-BC45-C2438FC3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2E48E-ECAA-4C11-8D14-5156B5C6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1ECDFD-53DE-4743-BDD4-D073C8E8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639DB1-B1B5-46FC-A215-9EA210F3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2168E-70F4-424A-A87C-D8621757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DFA0CF-6C22-4BA4-8658-6E63A7D1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8CFF1-2362-4342-BD5A-DA179AA8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44A18-BC5E-4577-90D3-E50875E5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89CDA9-6509-4E5D-8FBA-252C6B07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AFC8BA-BB63-41F5-8730-2A82601D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031039-1A83-487A-AA65-C35EF1A3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B658-4ECE-4B0B-9F42-08FACEDD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DD1950-7F79-4C70-9CC3-11BA9293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B86D78-717A-448A-B1AA-698D6E44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D0305D-B4B1-451E-A01B-296DACCE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5FE09-C97E-4FA8-ACCD-6346047F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7A2BB2-9950-443D-B0B7-C324AF65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838B8E-A20D-418C-A638-2BD22273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3FEC71-A0AA-4C76-AC91-5BC0DC66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764F2C-AFA0-4DD1-9D30-37C09E5E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1999C-95CF-4823-A398-56AA3C31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DBAE17-134F-4385-88D2-96787F67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2BD-CCD9-4BC4-A9AB-81869106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37DDA4-957F-4821-8B8B-2DBEA4D5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88E55F-FA36-4596-AD91-23199536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28F012-0FFC-403E-BD5D-55E3A297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AA8561-7CB9-4642-9B6E-2B28EA01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FA946C-F221-4784-A6BC-F4F4AB1B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31B390-739A-4A32-A37D-CCC7D0EE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2474F9-01F8-4ED3-A4A0-2530DF51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F52AD6-48FA-47F3-8016-2C0ED333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A50BE9-64FA-4804-834F-6BD66150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03554D-010E-427A-9444-59FAD6AB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406E-3140-40E7-AED7-2EFF2DB4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23302A-91FC-481F-AABB-1FB0FD2A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B2ACD4-EFB4-4C67-AAC0-E789B1D3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133593-BAFA-4AEC-9B2F-831AEB65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4525D8-E5A7-4291-B724-FB6D3553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0FBB9C-465D-43AF-B795-EDA3F5B9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703E-E48D-495B-AA2A-14994E77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F5D8-35F8-472F-93C9-8303FC98A1D3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Connecteur droit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3C18-CE63-49E3-80EA-B5727FEF9B4E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12BB-7394-4E65-8C06-D72A64BF611D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onnecteur droit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D45F-930C-4AA9-A86C-1DB03FB84E0E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7341-F70E-430B-AA66-B5C95DC0D06E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Connecteur droi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onnecteur droi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Connecteur droi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onnecteur droi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0B04-E3CD-4E62-9438-46A610B3B1BA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Connecteur droi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Connecteur droi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Connecteur droi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Connecteur droi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7654-2E49-464D-B2B1-0BD3E96EC61E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404280"/>
            <a:ext cx="692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75f6d"/>
                </a:solidFill>
                <a:latin typeface="Century Schoolbook"/>
              </a:rPr>
              <a:t>LA UNIVERS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142720" y="4572000"/>
            <a:ext cx="6697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Prof. Sra. A. Bensaada Guenaoui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Universidad de Abou Bekr Belkaid/Tlemc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Departamento de Lenguas Extranjer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Sección de Español/   1°L /2019-202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5f6d"/>
                </a:solidFill>
                <a:latin typeface="Century Schoolbook"/>
              </a:rPr>
              <a:t>Asignatura: Técnicas del trabajo universitar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ORIGEN DE LAS UNIVERSIDADR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De dónde surg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las iglesias / Monasterios: que cultivaban el amor por las letras y las ar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racticaban el trabajo manual y la oración comunitaria. Se cultivó en las monjas la lectura y la escritur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MONASTERIOS BENEDICTINO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San Benito de Nursia (480?-547?), era fundador del monasterio de montecassin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primeros en lograr un ordenamiento educativo curricu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Estudiaban en monasterios: los hijos varones de la nobleza, hijos de aldeanos y artesanos que aspiraban a la vida monásti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LOS CONFLICTOS ENTRE LA IGLESIA Y EL ESTADO DAN ORIGEN A LAS UNIVERSIDADES.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universidad nació en la edad media 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(siglo XII- 111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Qué es Universida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 Institución de Enseñanza superior donde se discute y difunde el saber. Oportunidad para escribir, leer, indagar, escuchar y discuti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PRINCIPALES ORGANIZACIONES UNIVERSITARI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23640" y="1484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Primera universidad: Bolonia, siglo XII (año 1119): se especializó en Derecho-Leyes, matemáticas, filosofía, astronomía, medicina y farmacia. (congregacion de estudiantes, 10.00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Universidad de maestros: Paris-Año 1150. Gran universidad Teológica más importante de Europa (congregación de maestros)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P</a:t>
            </a: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RIMERAS UNIVERSIDADES EUROPE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Oxford (1167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Cambridge (120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Padua(1222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Salerno(1224) ahora es Nápo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Tolosa (1229) Teólogos-herejí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Montpellier (125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En Europa, siglo XVI funcionaron 79 universidad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CARACTERÍSTICA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estudios tenían 4 o 5 facultades de acuerdo al permiso del Papa o el Re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 Menor o de Artes: Lógica, Matemáticas,Gramática y mús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es Mayores: Medicina, Teologiía, Derecho Canónico y Civi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6:11:45Z</dcterms:created>
  <dc:creator>acer</dc:creator>
  <dc:description/>
  <dc:language>en-US</dc:language>
  <cp:lastModifiedBy>User</cp:lastModifiedBy>
  <dcterms:modified xsi:type="dcterms:W3CDTF">2020-03-23T18:23:37Z</dcterms:modified>
  <cp:revision>16</cp:revision>
  <dc:subject/>
  <dc:title>LA UNIVERSIDAD</dc:title>
</cp:coreProperties>
</file>