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AB78-50F0-4375-B135-FBD86709B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CEF9-071D-4561-8964-C3438DCA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5995-2E9D-46B0-8176-98150F9A7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0A90-65AB-4831-913A-364A62865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470F-A898-452F-BABF-9E22A11D6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09E66-848F-4189-A7EF-66A526ED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F386-B8DD-4125-B826-81A0DA6A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41E2F-51CB-4305-B8F8-179F5A63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3AC5-DA6B-4BA0-B9B2-14680343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4ACC-5790-464B-A46D-146D5B0A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CA032-2E9B-49F3-9D37-ACB25E58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D1E9-2E91-4338-AA92-30154A37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2E24-B17B-4CC8-A572-87E0891B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5C3D8-EADE-49F4-A61D-9AC82EC4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E7F0-01AA-430F-8B4B-EFE9EA8E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1B3E-4C3F-4226-BEB0-B83DE6622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C1B91-34F0-49F9-BA14-E7CA70064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1C7D-F07A-430F-9E97-C3A07C313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39E5-9320-48B3-8E23-37A1C9EB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F39C-0D5D-4947-A235-78DC5C615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CF46-16FC-479D-8A1F-F6669B18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3C0A-99A6-4068-A2B0-253036DD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8BCF-FAB6-4C72-A99F-6E76B4CB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DC82-92A3-47E3-8849-3F1C77A3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7BCF-14E9-4B00-937F-D5993D784CA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E903-7E20-4A9F-85D9-3EDFD0E09A1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Técnicas de Estudio: </a:t>
            </a:r>
            <a:br>
              <a:rPr sz="5400"/>
            </a:b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La Toma de Apuntes</a:t>
            </a:r>
            <a:br>
              <a:rPr sz="5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f. Guenaoui Amaria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Universidad de Tlemc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 TOMA DE APU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ÍND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1. ASPECTOS QUE CONDICIONAN LA TOMA DE APU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2. CÓMO TOMAR APU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3. FÓRMULA IDEAL DE TOMAR APU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4. CÓMO DETECTAR LAS IDEAS IMPOR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5. QUÉ HACER DESPU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 TOMA DE APU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Object 4"/>
          <p:cNvGraphicFramePr/>
          <p:nvPr/>
        </p:nvGraphicFramePr>
        <p:xfrm>
          <a:off x="1258920" y="2205000"/>
          <a:ext cx="748980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205000"/>
                    <a:ext cx="748980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 TOMA DE APU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ÓMO TOMAR APU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n un cuaderno o bloc de anil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n hojas identificadas (asignatura, tema y fech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No utilizar la misma hoja para asignaturas difer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Numerar las ho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ejar márgenes y sang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Tinta azul o negra y escritura rápida pero le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so de abreviaturas (confección de un código prop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rdenación visual con títulos y subtít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so de oraciones con estructura bás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so de elementos gráficos: dibujos, esquema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visión de notas y puesta al día al llegar a c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 TOMA DE APU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ÓMO DETECTAR LAS IDEAS IMPOR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tender las llamadas de atención del profes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piar los guiones expuestos en la pizar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terpretar los lenguajes no verbales del profe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tilizar el vocabulario específico y técnico emple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scribir literalmente las defini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estar atención durante toda la expl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eguntar en caso de du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 TOMA DE APU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105160" y="182880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UÉ HACER DESPU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eer y revisar los apuntes al llegar a c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mpletar ideas y ejemp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escritura jerarquizada en apartados del contenido en lim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so de oraciones más elabor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alización de esquemas o resúm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BS00559_"/>
          <p:cNvPicPr/>
          <p:nvPr/>
        </p:nvPicPr>
        <p:blipFill>
          <a:blip r:embed="rId1"/>
          <a:stretch/>
        </p:blipFill>
        <p:spPr>
          <a:xfrm>
            <a:off x="1187280" y="2637000"/>
            <a:ext cx="3733920" cy="21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 TOMA DE APU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988640"/>
            <a:ext cx="373392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uerda que la primera meta importante de tu vida es consegui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raduado esc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 tienes que preparar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el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¡Saca lo mejor de t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as técnicas de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te ayudará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5" descr="PE03166_"/>
          <p:cNvPicPr/>
          <p:nvPr/>
        </p:nvPicPr>
        <p:blipFill>
          <a:blip r:embed="rId1"/>
          <a:stretch/>
        </p:blipFill>
        <p:spPr>
          <a:xfrm>
            <a:off x="4952880" y="1839960"/>
            <a:ext cx="373392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Rectangle 4" descr=""/>
          <p:cNvPicPr/>
          <p:nvPr/>
        </p:nvPicPr>
        <p:blipFill>
          <a:blip r:embed="rId1"/>
          <a:stretch/>
        </p:blipFill>
        <p:spPr>
          <a:xfrm>
            <a:off x="1133640" y="1798560"/>
            <a:ext cx="74437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2T07:22:12Z</dcterms:created>
  <dc:creator>NEC Computers International</dc:creator>
  <dc:description/>
  <dc:language>en-US</dc:language>
  <cp:lastModifiedBy>User</cp:lastModifiedBy>
  <dcterms:modified xsi:type="dcterms:W3CDTF">2017-12-02T18:24:22Z</dcterms:modified>
  <cp:revision>20</cp:revision>
  <dc:subject/>
  <dc:title>LA TOMA DE APUNTES         Técnicas de estudio 3º ESO</dc:title>
</cp:coreProperties>
</file>