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C38E-0203-486B-BB87-B669640AB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3FDD-0B1F-42E6-94FA-D1EC4A370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C539-4242-4D65-9DC3-202287DBB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14E1-CF81-4452-8FD7-2667F6680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E69D3-E1A2-4595-A164-6B4EA8AD9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EB585-0A78-4CC3-AA33-00C8EEE20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1F8D7-AC5B-486A-899E-6323F9B9F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25580-EF1C-4491-852A-25E604B05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C63B8-F2AC-410F-B9DB-A36E677D9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37F7B-B8EC-403B-82F1-ADAACAFA1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74E5D-57E5-45D5-ADC3-601AAD0E4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4F4A-3EAC-499B-9D81-CC6C4E24D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5619E-296B-40EC-A3C9-EA6D7169B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2C67B-1529-4F72-967F-6656B800D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E2FC9-46FC-4522-BBEE-CAB7E36D5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641D2-E704-4394-ADA6-ECC259E3E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8BC54-930B-463E-B87E-4F6D15A6E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A764-0C22-4663-A0B2-D530899BD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10C8-59D9-432B-A8E3-2932996BE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71BC-9240-47A4-BA14-3BD39B7E2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D1AC-60EA-4665-A628-277D49B9B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EDD1-F904-4913-BDCE-0204B86FB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209B-26DC-4DDE-9888-98BA7A2BD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0985-8CFA-4977-BC44-F1BD11C5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65CD5-2874-4684-9113-1F93864B923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BFE1B-CA92-4B21-B323-650B0E930DCE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484280"/>
            <a:ext cx="7772400" cy="41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5400" spc="-1" strike="noStrike">
                <a:solidFill>
                  <a:srgbClr val="000000"/>
                </a:solidFill>
                <a:latin typeface="Times New Roman"/>
              </a:rPr>
              <a:t>Técnicas de Estudio: </a:t>
            </a:r>
            <a:br>
              <a:rPr sz="5400"/>
            </a:br>
            <a:r>
              <a:rPr b="1" i="1" lang="es-ES_tradnl" sz="5400" spc="-1" strike="noStrike">
                <a:solidFill>
                  <a:srgbClr val="000000"/>
                </a:solidFill>
                <a:latin typeface="Times New Roman"/>
              </a:rPr>
              <a:t>La Toma de Apuntes</a:t>
            </a:r>
            <a:br>
              <a:rPr sz="5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f. Guenaoui Amaria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Universidad de Tlemc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LA TOMA DE APU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6201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ÍND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1. ASPECTOS QUE CONDICIONAN LA TOMA DE APU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2. CÓMO TOMAR APU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3. FÓRMULA IDEAL DE TOMAR APU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4. CÓMO DETECTAR LAS IDEAS IMPORT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5. QUÉ HACER DESPU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LA TOMA DE APU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Object 4"/>
          <p:cNvGraphicFramePr/>
          <p:nvPr/>
        </p:nvGraphicFramePr>
        <p:xfrm>
          <a:off x="1258920" y="2205000"/>
          <a:ext cx="7489800" cy="24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205000"/>
                    <a:ext cx="7489800" cy="24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LA TOMA DE APU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ÓMO TOMAR APU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n un cuaderno o bloc de anil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n hojas identificadas (asignatura, tema y fech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No utilizar la misma hoja para asignaturas difer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Numerar las hoj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Dejar márgenes y sangr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Tinta azul o negra y escritura rápida pero leg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Uso de abreviaturas (confección de un código propi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Ordenación visual con títulos y subtítu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Uso de oraciones con estructura bás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Uso de elementos gráficos: dibujos, esquema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Revisión de notas y puesta al día al llegar a c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LA TOMA DE APU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ÓMO DETECTAR LAS IDEAS IMPORT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Atender las llamadas de atención del profes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Copiar los guiones expuestos en la pizar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Interpretar los lenguajes no verbales del profes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Utilizar el vocabulario específico y técnico emplea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scribir literalmente las defini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restar atención durante toda la expl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reguntar en caso de du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LA TOMA DE APU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105160" y="1828800"/>
            <a:ext cx="3733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UÉ HACER DESPU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Leer y revisar los apuntes al llegar a c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Completar ideas y ejemp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Reescritura jerarquizada en apartados del contenido en limp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Uso de oraciones más elabor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Realización de esquemas o resúme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5" descr="BS00559_"/>
          <p:cNvPicPr/>
          <p:nvPr/>
        </p:nvPicPr>
        <p:blipFill>
          <a:blip r:embed="rId1"/>
          <a:stretch/>
        </p:blipFill>
        <p:spPr>
          <a:xfrm>
            <a:off x="1187280" y="2637000"/>
            <a:ext cx="3733920" cy="21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LA TOMA DE APU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988640"/>
            <a:ext cx="373392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cuerda que la primera meta importante de tu vida es consegui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l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Graduado esco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 tienes que preparar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ra el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¡Saca lo mejor de t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Las técnicas de estu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te ayudará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5" descr="PE03166_"/>
          <p:cNvPicPr/>
          <p:nvPr/>
        </p:nvPicPr>
        <p:blipFill>
          <a:blip r:embed="rId1"/>
          <a:stretch/>
        </p:blipFill>
        <p:spPr>
          <a:xfrm>
            <a:off x="4952880" y="1839960"/>
            <a:ext cx="3733920" cy="39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Rectangle 4" descr=""/>
          <p:cNvPicPr/>
          <p:nvPr/>
        </p:nvPicPr>
        <p:blipFill>
          <a:blip r:embed="rId1"/>
          <a:stretch/>
        </p:blipFill>
        <p:spPr>
          <a:xfrm>
            <a:off x="1133640" y="1798560"/>
            <a:ext cx="744372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2T07:22:12Z</dcterms:created>
  <dc:creator>NEC Computers International</dc:creator>
  <dc:description/>
  <dc:language>en-US</dc:language>
  <cp:lastModifiedBy>User</cp:lastModifiedBy>
  <dcterms:modified xsi:type="dcterms:W3CDTF">2017-12-02T18:24:22Z</dcterms:modified>
  <cp:revision>20</cp:revision>
  <dc:subject/>
  <dc:title>LA TOMA DE APUNTES         Técnicas de estudio 3º ESO</dc:title>
</cp:coreProperties>
</file>