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271E-DC59-4D95-8968-DAA77C68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1F81-D8E7-4A3E-A4FF-4F72B4E8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D4C-A3E2-44C8-B8D9-A1A9EC37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AB9-0071-4885-9BA8-93D3FA57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570C-C32B-4C2F-B793-354AF48D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80CA-05C2-4E66-9C62-F140AD04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4A86-3AC2-44CC-94ED-9659F1E0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AAB6-1056-4A52-A547-B00F759B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C791-A93F-4A5D-ACD6-9530A1D4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BED1-DD8B-4FBC-B017-466AB943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E3F8-87A9-4D25-B84C-6CDCAD81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1BC9-DDBC-4066-82F9-456C6510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1D82-1864-432C-89CC-67D863DA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4D81-2C14-4F9C-9BBB-06B98E80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48CA-0899-4C72-82F1-6DFDC65B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C05B-AEC8-4994-985B-9C685904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AD0D-E449-467F-A60A-3F16CAC7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617C9-143F-4A73-820A-9790273E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BFE4E-67D1-40CF-ACE4-32BCF53C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45B1C-3D1F-4827-9453-6B5801FB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195A1-AA9D-48AE-BCE6-10D8E05D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656BD-B4A6-4A8B-90EB-38616C47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AC22-91F3-4580-A831-42E692BF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7A935-8217-4ED9-845F-461A1C36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6745C-F055-4209-9989-DAD7D156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63B70-A654-453E-ABC6-55A05A7B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B7404E-07F8-4A41-A335-0F1FA4D0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7A0C9-1861-4AEA-AE1F-1E4B167D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27CB0A-5EE7-44C7-9CAF-0B6C5330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985BE3-51B5-4E7A-8725-6B0B5AA8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31436-C6D9-499D-AFCB-42E44D72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F0252-9215-4874-B98E-B95B5477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15060-3762-444A-B188-96F705AA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7B9-2F67-4085-8D1B-71749669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DE438-8837-4260-8E0D-3E4E05A7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F8B76-C0BA-4266-B944-E0237B3B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D9BA0-B85C-4F80-8A23-DE3110C9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871BF-003B-431A-9CB5-45D38FFA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399B4-CDDD-4BC6-9CF7-B9FB0DE1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FFFC1-92C3-4365-ADC3-950DB500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D5B71-B57C-4B35-A3CD-FD2F3A69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49FA8-66B7-4AD1-BDD2-822B1A82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967B1-E1CD-4EE2-99C5-C9DA57D3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F3D19-2A1A-432B-B5F8-54070CD2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68B-1A77-4EE2-9DDD-95D5013D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B2B0A3-101B-4324-AA77-36A08BA0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DDF58B-A603-455D-946F-70C2C348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68A79A-1A77-4B00-97EF-DF256D32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BD5E0-544C-44EC-9F5E-BD40EBDA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FE79D-ACD4-4D40-93AC-70E11FD0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1B54C9-BD3B-4FA2-8B84-29311D50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24B0F8-F4AC-418B-A34B-9E99B97A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2BF03A-F591-42D4-92D2-DDADDB30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2FD911-71F1-4117-8BED-02C95EC5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3F9033-7613-41EF-85F6-8010A270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66E-E3D2-43D0-A37A-FB0875D8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D482E1-F608-4D23-AED4-0F5059C3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7CCEF0-A665-4B92-9C9C-FF08875D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20EE7D-40B2-4DD8-BC7C-840B486E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44C238-1FF7-4864-B7E3-5863E933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48CD8D-20E3-4E37-8BBE-BAA6B5DA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917010-A216-4A43-B57D-89A4B0B1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A69446-BEBD-4834-BEC1-A0F4D7F4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ABFBE0-0C4C-49CF-B60B-8A305E22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1FFDA4-A28E-4863-8739-C82430A1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830326-D752-43F8-993F-441D0685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345-DC03-40DF-B504-B5E65137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820275-969B-4A5B-938D-2B9911DA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B7BDE6-BBC0-4DD8-8C49-90541B2E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9EE71-4ADA-4BEE-A6D8-2158ACAE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F00C8B-B928-4E35-AEAF-28D74B80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6B9B52-CE31-48E4-8793-5504CE45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43CF37-5E42-49BD-B29E-D1DC6E63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8C0E22-CA82-4F96-93A5-AED85EE3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BEF7E7-FD8E-412C-8EFC-B59C08E4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BC81EB-0D76-4A33-B0EB-B3F20B62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C6B875-E834-4F85-8C0F-26FA59A4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493-E3E5-4A2F-ADBD-00823598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4193C8-4673-4835-8E3B-CFAA89BD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359C8B-A014-49B7-B598-370C4298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68F17D-4AE0-4F59-8FA2-7D4A7720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8E3A49-55BD-4EE9-8B44-1E7EF46B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3C17E3-D42F-4444-9D5A-493EA0F2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C0C-B9F5-48FA-84DB-AB6E1E17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C1A3-1A05-4912-BCA8-28817A257F0D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Connecteur droit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80BF-C24F-4EAA-B91A-37B4028CF025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61B3-1B94-422A-A242-D65D34EDC577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onnecteur droit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C3FD-52BE-412D-9A82-35B163EFE3BE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E6C8-D700-4D23-91E1-410A75FDCCCA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Connecteur droi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onnecteur droi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Connecteur droi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onnecteur droi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BA32-C062-41FD-BD34-B17E1F90143B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Connecteur droi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Connecteur droi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Connecteur droi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Connecteur droi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997D-F464-4872-ADD7-F281766DBC50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404280"/>
            <a:ext cx="692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75f6d"/>
                </a:solidFill>
                <a:latin typeface="Century Schoolbook"/>
              </a:rPr>
              <a:t>LA UNIVERS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142720" y="4572000"/>
            <a:ext cx="6697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Prof. Sra. A. Bensaada Guenaoui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Universidad de Abou Bekr Belkaid/Tlemc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Departamento de Lenguas Extranjer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Sección de Español/   1°L /2019-202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5f6d"/>
                </a:solidFill>
                <a:latin typeface="Century Schoolbook"/>
              </a:rPr>
              <a:t>Asignatura: Técnicas del trabajo universitar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ORIGEN DE LAS UNIVERSIDADR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De dónde surg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las iglesias / Monasterios: que cultivaban el amor por las letras y las ar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racticaban el trabajo manual y la oración comunitaria. Se cultivó en las monjas la lectura y la escritur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MONASTERIOS BENEDICTINO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San Benito de Nursia (480?-547?), era fundador del monasterio de montecassin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primeros en lograr un ordenamiento educativo curricu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Estudiaban en monasterios: los hijos varones de la nobleza, hijos de aldeanos y artesanos que aspiraban a la vida monásti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LOS CONFLICTOS ENTRE LA IGLESIA Y EL ESTADO DAN ORIGEN A LAS UNIVERSIDADES.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universidad nació en la edad media 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(siglo XII- 111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Qué es Universida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 Institución de Enseñanza superior donde se discute y difunde el saber. Oportunidad para escribir, leer, indagar, escuchar y discuti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PRINCIPALES ORGANIZACIONES UNIVERSITARI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23640" y="1484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Primera universidad: Bolonia, siglo XII (año 1119): se especializó en Derecho-Leyes, matemáticas, filosofía, astronomía, medicina y farmacia. (congregacion de estudiantes, 10.00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Universidad de maestros: Paris-Año 1150. Gran universidad Teológica más importante de Europa (congregación de maestros)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P</a:t>
            </a: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RIMERAS UNIVERSIDADES EUROPE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Oxford (1167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Cambridge (120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Padua(1222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Salerno(1224) ahora es Nápo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Tolosa (1229) Teólogos-herejí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Montpellier (125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En Europa, siglo XVI funcionaron 79 universidad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CARACTERÍSTICA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estudios tenían 4 o 5 facultades de acuerdo al permiso del Papa o el Re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 Menor o de Artes: Lógica, Matemáticas,Gramática y mús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es Mayores: Medicina, Teologiía, Derecho Canónico y Civi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6:11:45Z</dcterms:created>
  <dc:creator>acer</dc:creator>
  <dc:description/>
  <dc:language>en-US</dc:language>
  <cp:lastModifiedBy>User</cp:lastModifiedBy>
  <dcterms:modified xsi:type="dcterms:W3CDTF">2020-03-23T18:23:37Z</dcterms:modified>
  <cp:revision>16</cp:revision>
  <dc:subject/>
  <dc:title>LA UNIVERSIDAD</dc:title>
</cp:coreProperties>
</file>