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080-FEDD-4E93-81EE-564D3F18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805-4916-46D2-9F2F-C092658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C3E-6049-4335-AD8D-455B1BF9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FF0-C695-4AB5-825A-168D3C2F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6250-99D5-4654-B8E4-19410FF9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830E-74BD-4C55-BE58-BC4F2CAC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489B-9308-46FF-ACCE-5D143117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FDE6-D70A-44A1-87DC-FBECC9D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F289-5E32-4665-B849-C7ADF533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36FC-16FC-436D-B5C1-1D98F22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C89B-77BC-4B08-AD5E-39A5543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271-E594-4703-BFA9-B8B7CE66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08A2-B29C-46F4-816C-289F1C95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4F6-E13E-4A91-81E1-5F12F4A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FDD3-47C8-44C9-9370-C841921B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E92A-58D1-4D64-8BCE-0F81F926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E8A5-8CCD-4C6A-AB45-B1369CE0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DEB-841A-4E7B-8618-C891FC7D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95A-B823-4740-8103-5B3891EE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0F5-DE23-41ED-8571-4EC8447B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104-4EC4-4A35-AFD1-25D3DE8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70E-5194-4EBE-9295-0392DFC0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6F3-877A-4A47-8B02-9B017A2D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E707-A1A4-498B-9735-A3920B77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A8EF-DD19-40EB-8D1E-2827E48FCA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AF64-4178-45F8-9951-E30F7B44BAF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Técnicas de Estudio: </a:t>
            </a:r>
            <a:br>
              <a:rPr sz="5400"/>
            </a:br>
            <a:r>
              <a:rPr b="1" i="1" lang="es-ES_tradnl" sz="5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br>
              <a:rPr sz="5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. Guenaoui Amari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versidad de Tlemc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ÍND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ASPECTOS QUE CONDICIONAN LA TOMA DE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CÓMO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. FÓRMULA IDEAL DE TOMAR APU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. CÓMO DETECTAR LAS IDEA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5. 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1258920" y="2205000"/>
          <a:ext cx="74898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4898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ÓMO TOMAR APU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un cuaderno o bloc de ani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hojas identificadas (asignatura, tema y fec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o utilizar la misma hoja para asignaturas dif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merar las ho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jar márgenes y san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nta azul o negra y escritura rápida pero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abreviaturas (confección de un código prop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rdenación visual con títulos y subtít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con estructur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elementos gráficos: dibujos, esquema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visión de notas y puesta al día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ÓMO DETECTAR LAS IDEAS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der las llamadas de atención del profes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piar los guiones expuestos en la piza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pretar los lenguajes no verbales del profe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tilizar el vocabulario específico y técnico emple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ribir literalmente las defin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star atención durante toda la ex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eguntar en caso de d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18288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UÉ HACER DESPU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eer y revisar los apuntes al llegar a 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letar ideas y 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escritura jerarquizada en apartados del contenido en li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 de oraciones más elabo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alización de esquemas o res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BS00559_"/>
          <p:cNvPicPr/>
          <p:nvPr/>
        </p:nvPicPr>
        <p:blipFill>
          <a:blip r:embed="rId1"/>
          <a:stretch/>
        </p:blipFill>
        <p:spPr>
          <a:xfrm>
            <a:off x="1187280" y="2637000"/>
            <a:ext cx="373392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TOMA DE APU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37339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erda que la primera meta importante de tu vida es consegu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duad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 tienes que prepar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¡Saca lo mejor de 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técnicas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 ayudar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PE03166_"/>
          <p:cNvPicPr/>
          <p:nvPr/>
        </p:nvPicPr>
        <p:blipFill>
          <a:blip r:embed="rId1"/>
          <a:stretch/>
        </p:blipFill>
        <p:spPr>
          <a:xfrm>
            <a:off x="4952880" y="1839960"/>
            <a:ext cx="37339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1133640" y="1798560"/>
            <a:ext cx="7443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7:22:12Z</dcterms:created>
  <dc:creator>NEC Computers International</dc:creator>
  <dc:description/>
  <dc:language>en-US</dc:language>
  <cp:lastModifiedBy>User</cp:lastModifiedBy>
  <dcterms:modified xsi:type="dcterms:W3CDTF">2017-12-02T18:24:22Z</dcterms:modified>
  <cp:revision>20</cp:revision>
  <dc:subject/>
  <dc:title>LA TOMA DE APUNTES         Técnicas de estudio 3º ESO</dc:title>
</cp:coreProperties>
</file>