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39D9-7ED0-4E90-8B6D-B04BB5216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BEF2-0146-43D4-86EF-A18060E17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9CFB-583D-4CBA-BED2-A18C23D4D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F853-E767-4D60-9BD4-2DB572301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67A81-65C8-49FA-8C8B-88D7ED64E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52C97-97D6-4696-9B7C-7F18B2B6D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693F7-0DCE-4B5E-9201-E57BE320E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E6F2D-E9C5-4E95-AD1A-0C6205B57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A0B7F-F1A5-497F-8DB8-55C0C3E67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34F25-3411-4109-BB5D-710690239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4D350-B8FC-43CF-BD19-E35E0252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D944-0B36-41E4-AEA0-D75FFA36C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F77B7-3B25-4CAA-BF97-038DDA584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8BA7E-DFF6-4DCD-A67F-C3B54138A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E95AE-AFEC-4F09-A20D-2A7138C93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8935B-F051-4AFF-8939-334796FB0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5B620-7203-4C16-98BE-C92E44751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3E4F7C-CCC0-4E94-8EF6-B68802C93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A5A176-EE00-403A-B812-E69FA9D84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1AC840-5617-4C37-AB20-08BD608B7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AF1D54-4A73-40FC-A9C2-0FEBC74D2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454B4F-D0FE-4A12-ABB1-3C15C1863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58D1-6D3B-4B07-9A5A-CC0275A4B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7E4A52-0B60-48BF-B86D-6D97EE39F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85EE1B-0B5F-491A-B6CC-A21010385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8C6F01-4D44-415F-AAEC-731B99056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650021-186E-4111-9594-284374C4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63C21A-7C55-4F5C-9D06-777B14B57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296F9E-BF1E-44AC-8F48-8A912A931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729F6C-023E-45F3-9ED2-CB1826C65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4BD6F-6AFF-49CF-AFC4-7173D504E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B58F6-9D30-44D4-95B2-62E955E14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E2DCE-7526-4DF0-B151-8901B517A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CDF6-F83A-4C44-9CC9-616BFE6FE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1056C-741B-457D-9127-8AEB29632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D2D53-42AF-4CD8-99E3-052401CDA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EE66E-3D70-4AD0-8C0C-26DF6F306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0C5AA-360A-4DA7-ADF3-DCE15AEFD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4E339-8159-4836-A6F4-6BCC43C7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ABD05-C743-4944-805D-27195C20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073D5-0CC8-4449-8045-E0A37EC4F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5A201-208F-4703-8FCF-C43F734AA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32762-03B0-45EE-921F-3876BD433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10471D-D71C-4E94-B3E8-B3D349656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8742-0A51-452E-9440-E7C4483EB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BEDEC4-C131-4221-AEA6-16E22B982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273DEF-823E-4AEC-9D2F-C266CFA83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4BAFE6-8BCE-42D6-B9CC-E861AD98C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39FDEE-FE71-489A-BD62-011217429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4E4164-3314-4DFC-AC69-B6337A76E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65C021-18D6-4B89-AECA-B41CE5BE1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897C8A-771B-4583-9936-8BCD7D4D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6ADB9E-D153-41C9-B5A5-4ADB4C750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8C4E26-2E48-4EBB-9CD1-77343B0FA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CA7D7F-9191-4A03-A185-3A7A78C51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8B17-4245-4177-9E6D-4F804E1FA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8FA148-5DDB-4A80-9F09-A090C5B7A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F9A6E5-98D9-424F-A519-1F2D91A62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5AFBE9-4651-446E-907C-31BAA4D86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0ECB01-44E1-436E-B754-0291BAFB5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EE871D-0832-41E4-9148-577F7EC00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2D5EEA-CDE8-4D4F-94FF-62C58A274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4300A1-CE70-4357-A584-5214524C1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09A2EA-D4A6-4211-855A-ED3C78010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610D7D-A888-4F4F-9AAA-F45C62DD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F955AA-D09A-4F6E-8A37-BE89A1512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6FB9-E199-46FA-8058-D604BF88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683422-46E6-4409-B04C-522C5E8B4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803EE9-6A4B-4D5B-86F3-58158C536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42DCD4-C4C6-449E-85E5-05CE00F88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B3BA68-FE42-428F-9180-FC348AD22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0E3876-22A6-4A6E-970C-1906A4C76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50F349-6A8F-4D46-9929-E52C6F1C9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DD9590-BA9D-4599-90A5-536EA47D2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6B66E5-897F-44FB-8DCD-B311B3DF5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8201C8-5467-4F66-816F-C5466E677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5631C3-618F-460D-B67B-3B6186B69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70D7-E20D-4570-B6C6-13F4FDAE2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215E48-233B-4CBF-A910-EDD9F3E2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C32E37-6DDB-4726-A683-E872AB41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C37E3C-77C2-4838-9AF9-2BDABC12C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560623-A490-4180-9EF4-7BE3A7BAE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A12E67-B5FB-4E76-9629-C8D978A92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779B-7783-4834-92C1-99130F9D7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Connecteur droit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Connecteur droit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Connecteur droit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Connecteur droit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El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9E7AC-2306-4BC5-BB79-61C99212CD60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Connecteur droit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Connecteur droit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Connecteur droit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Connecteur droit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Connecteur droit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Connecteur droit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Ellipse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Ellipse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Ellipse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Ellipse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Ellipse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AE1BA-58B2-48B6-B3D2-FD78DA5D7A8B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Connecteur droit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Connecteur droit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Connecteur droit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Connecteur droit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El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CA4ED-1F9F-4760-8C7E-224B5839D5F3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Connecteur droit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Connecteur droit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Connecteur droit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Connecteur droit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Connecteur droit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Ellipse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Ellipse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Ellipse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Ellipse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Ellipse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Connecteur droit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11244-4863-4176-8F18-F138074FCF1B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Connecteur droit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Connecteur droit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Connecteur droit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Connecteur droit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El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89213-5F5C-4D06-AC13-6853C57DAD25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Connecteur droit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Connecteur droit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Connecteur droit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Connecteur droit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Connecteur droit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Ellipse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49FE3-9572-4072-A05F-48FC0750517A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Connecteur droit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Ellipse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Connecteur droit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Connecteur droit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Connecteur droit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Connecteur droit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68C68-F0C4-40F6-BF8A-DBC3752460DE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14720" y="404280"/>
            <a:ext cx="692928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575f6d"/>
                </a:solidFill>
                <a:latin typeface="Century Schoolbook"/>
              </a:rPr>
              <a:t>LA UNIVERSIDA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142720" y="4572000"/>
            <a:ext cx="669780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575f6d"/>
                </a:solidFill>
                <a:latin typeface="Century Schoolbook"/>
              </a:rPr>
              <a:t>Prof. Sra. A. Bensaada Guenaoui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575f6d"/>
                </a:solidFill>
                <a:latin typeface="Century Schoolbook"/>
              </a:rPr>
              <a:t>Universidad de Abou Bekr Belkaid/Tlemce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575f6d"/>
                </a:solidFill>
                <a:latin typeface="Century Schoolbook"/>
              </a:rPr>
              <a:t>Departamento de Lenguas Extranjera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575f6d"/>
                </a:solidFill>
                <a:latin typeface="Century Schoolbook"/>
              </a:rPr>
              <a:t>Sección de Español/   1°L /2019-2020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75f6d"/>
                </a:solidFill>
                <a:latin typeface="Century Schoolbook"/>
              </a:rPr>
              <a:t>Asignatura: Técnicas del trabajo universitario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575f6d"/>
                </a:solidFill>
                <a:latin typeface="Century Schoolbook"/>
              </a:rPr>
              <a:t>ORIGEN DE LAS UNIVERSIDADRES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¿</a:t>
            </a: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De dónde surgen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De las iglesias / Monasterios: que cultivaban el amor por las letras y las art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Practicaban el trabajo manual y la oración comunitaria. Se cultivó en las monjas la lectura y la escritura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575f6d"/>
                </a:solidFill>
                <a:latin typeface="Century Schoolbook"/>
              </a:rPr>
              <a:t>MONASTERIOS BENEDICTINOS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San Benito de Nursia (480?-547?), era fundador del monasterio de montecassin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Los primeros en lograr un ordenamiento educativo curricula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Estudiaban en monasterios: los hijos varones de la nobleza, hijos de aldeanos y artesanos que aspiraban a la vida monástica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5104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75f6d"/>
                </a:solidFill>
                <a:latin typeface="Century Schoolbook"/>
              </a:rPr>
              <a:t>LOS CONFLICTOS ENTRE LA IGLESIA Y EL ESTADO DAN ORIGEN A LAS UNIVERSIDADES.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01680" y="1412640"/>
            <a:ext cx="85406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La universidad nació en la edad media </a:t>
            </a: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(siglo XII- 1119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¿Qué es Universidad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Es Institución de Enseñanza superior donde se discute y difunde el saber. Oportunidad para escribir, leer, indagar, escuchar y discuti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75f6d"/>
                </a:solidFill>
                <a:latin typeface="Century Schoolbook"/>
              </a:rPr>
              <a:t>PRINCIPALES ORGANIZACIONES UNIVERSITARIAS: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23640" y="1484280"/>
            <a:ext cx="85690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Primera universidad: Bolonia, siglo XII (año 1119): se especializó en Derecho-Leyes, matemáticas, filosofía, astronomía, medicina y farmacia. (congregacion de estudiantes, 10.000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Universidad de maestros: Paris-Año 1150. Gran universidad Teológica más importante de Europa (congregación de maestros)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75f6d"/>
                </a:solidFill>
                <a:latin typeface="Century Schoolbook"/>
              </a:rPr>
              <a:t>P</a:t>
            </a:r>
            <a:r>
              <a:rPr b="0" lang="fr-FR" sz="3600" spc="-1" strike="noStrike">
                <a:solidFill>
                  <a:srgbClr val="575f6d"/>
                </a:solidFill>
                <a:latin typeface="Century Schoolbook"/>
              </a:rPr>
              <a:t>RIMERAS UNIVERSIDADES EUROPEAS: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entury Schoolbook"/>
              </a:rPr>
              <a:t>U. de Oxford (1167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entury Schoolbook"/>
              </a:rPr>
              <a:t>U. de Cambridge (1209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entury Schoolbook"/>
              </a:rPr>
              <a:t>U. de Padua(1222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entury Schoolbook"/>
              </a:rPr>
              <a:t>U. de Salerno(1224) ahora es Nápol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entury Schoolbook"/>
              </a:rPr>
              <a:t>U. de Tolosa (1229) Teólogos-herejía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entury Schoolbook"/>
              </a:rPr>
              <a:t>U. de Montpellier (1259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entury Schoolbook"/>
              </a:rPr>
              <a:t>En Europa, siglo XVI funcionaron 79 universidades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575f6d"/>
                </a:solidFill>
                <a:latin typeface="Century Schoolbook"/>
              </a:rPr>
              <a:t>CARACTERÍSTICAS: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Los estudios tenían 4 o 5 facultades de acuerdo al permiso del Papa o el Rey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Facultad Menor o de Artes: Lógica, Matemáticas,Gramática y músic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Facultades Mayores: Medicina, Teologiía, Derecho Canónico y Civil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1T16:11:45Z</dcterms:created>
  <dc:creator>acer</dc:creator>
  <dc:description/>
  <dc:language>en-US</dc:language>
  <cp:lastModifiedBy>User</cp:lastModifiedBy>
  <dcterms:modified xsi:type="dcterms:W3CDTF">2020-03-23T18:23:37Z</dcterms:modified>
  <cp:revision>16</cp:revision>
  <dc:subject/>
  <dc:title>LA UNIVERSIDAD</dc:title>
</cp:coreProperties>
</file>