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3D6C-C3D9-4C3D-8CAB-985911E33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2832-68ED-46BD-BCD9-689928889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FE6B-188B-4D94-AA51-8F06FCFCE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4222-6A3F-43B3-8C43-1E5D13CC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7333-C3F6-4D4D-B740-7BAA7AB2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F733-37A7-4CC3-ABD1-D2E08BA4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3135-4AB5-4428-85F6-5C75C3D1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39E2-6882-4420-893E-0338AE55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5A74-DB7C-43CC-BED0-7447CCA9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73C0-04C8-4314-8459-34E9EC3E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BF50-C171-4E05-84CD-8CF0140E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CCD3-094C-448A-95B3-67C2AD9A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581F-29CE-41DB-82EE-1B3FB12C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D224-4644-42F9-974D-67D36ACA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2A0C-6194-4E3D-9316-DE1CF618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C81F-E139-4B4A-906F-59929A89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BE80-3A11-485A-8C19-0EBCAB45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B868-ED67-4749-804D-7C2D0333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0788-D208-4BF8-8210-C75BA721D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23D3-D21A-46F1-8E17-8143CB1C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3A69-B63B-473C-9D62-5A276A66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080C-D232-418E-8C78-B8368ECC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F052-4704-46B7-B626-66B80F61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BBFF-3EC7-4F3C-8DF6-475902B5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0E39-C7AC-47D6-8130-2FCF20BE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4CD5-4465-4CC1-92E8-A5B3F58E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013F-8C12-4938-BE69-C40D571E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D058-171C-4240-B540-8A8DF4ABC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9021-6014-4D9B-8722-2FEF52CDF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428480" y="4786200"/>
            <a:ext cx="7313400" cy="6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mic Sans MS"/>
              </a:rPr>
              <a:t>Prof.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A. Guenaoui Bensa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Universidad de Tlemc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epartamento de españo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Febrero de 2020 / </a:t>
            </a:r>
            <a:r>
              <a:rPr b="1" lang="ar-DZ" sz="2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1143000" y="1857240"/>
            <a:ext cx="78184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¿Cómo tomar apuntes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Aprende a escuchar: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2214720"/>
            <a:ext cx="731340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Desde el principio al f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as repeticiones del maestr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os cambios en el tono de voz y la velocidad al habl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Debes de estar atento a: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7002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906480" indent="0">
              <a:spcBef>
                <a:spcPts val="901"/>
              </a:spcBef>
              <a:buNone/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omic Sans MS"/>
              </a:rPr>
              <a:t>Las palabras o frases clav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no debemos olvidar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n resumen …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ara terminar…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o más importante es ….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oncluyendo……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0">
              <a:spcBef>
                <a:spcPts val="901"/>
              </a:spcBef>
              <a:buNone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Cuando tomes apuntes……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827360"/>
            <a:ext cx="785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Identifica los puntos principales del tem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apta las ideas principa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No trates de anotarlo to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Usa hojas sueltas en un fóld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Separa las ideas por párraf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Usa un papel nuevo para temas nuev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mplia e intercambia apunt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rea tu propio sistema de abreviaturas como en el cha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Cuando tomes apuntes……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37e8f"/>
                </a:solidFill>
                <a:latin typeface="Comic Sans MS"/>
              </a:rPr>
              <a:t>En resumen:</a:t>
            </a:r>
            <a:endParaRPr b="1" lang="en-US" sz="36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920" y="1052280"/>
            <a:ext cx="7561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Los apuntes no son los dictados del profes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se aprende a tomar apuntes de un día para el otr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Debes darte la oportunidad de probar el sistem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te desanimes, tomar apuntes se adquiere con la práctic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Organízate, ten presente que lo utilizarás hasta en la Universid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9360" y="301320"/>
            <a:ext cx="7640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Tomar apuntes ..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8480" y="1857240"/>
            <a:ext cx="731340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yuda a reforzar la atención sobre lo que dice el profeso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Va más allá de lo que dice el libr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6" descr="alumno_en_aula_de_clase"/>
          <p:cNvPicPr/>
          <p:nvPr/>
        </p:nvPicPr>
        <p:blipFill>
          <a:blip r:embed="rId1"/>
          <a:stretch/>
        </p:blipFill>
        <p:spPr>
          <a:xfrm>
            <a:off x="6516720" y="4508640"/>
            <a:ext cx="2232000" cy="183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187280" y="476280"/>
            <a:ext cx="7313760" cy="22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ermite fijarnos en detalles que más tarde seremos capaces de record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umenta la posibilidad de obtener mejores nota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Picture 5" descr="examen-egel-239x300"/>
          <p:cNvPicPr/>
          <p:nvPr/>
        </p:nvPicPr>
        <p:blipFill>
          <a:blip r:embed="rId1"/>
          <a:stretch/>
        </p:blipFill>
        <p:spPr>
          <a:xfrm>
            <a:off x="6877080" y="4076640"/>
            <a:ext cx="182736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¿Qué es tomar apuntes?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700280"/>
            <a:ext cx="731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s el acto de anotar los puntos más saltantes de una clas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s una actividad que apoya el estudio y el aprendizaj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7" descr="nino"/>
          <p:cNvPicPr/>
          <p:nvPr/>
        </p:nvPicPr>
        <p:blipFill>
          <a:blip r:embed="rId1"/>
          <a:stretch/>
        </p:blipFill>
        <p:spPr>
          <a:xfrm>
            <a:off x="5796000" y="4508640"/>
            <a:ext cx="3025800" cy="2017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18864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Ventajas de tomar apuntes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628640"/>
            <a:ext cx="731340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e mantiene activo en la clas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ejora la memorizació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uy útil para el repas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7" descr="20070417klplyllec_220"/>
          <p:cNvPicPr/>
          <p:nvPr/>
        </p:nvPicPr>
        <p:blipFill>
          <a:blip r:embed="rId1"/>
          <a:stretch/>
        </p:blipFill>
        <p:spPr>
          <a:xfrm>
            <a:off x="6084720" y="4579920"/>
            <a:ext cx="2737080" cy="1832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Ventajas de tomar apuntes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Desarrolla el hábito de sintetizar o resumi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ermite retomar la explicación del maestr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yuda a seleccionar lo más importante de un. te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Al comenzar la cl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476360" y="2060640"/>
            <a:ext cx="73137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Siéntate en un lugar cerca al profes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vita las distracci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dopta una postura adecuad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2071800" y="1571760"/>
            <a:ext cx="655164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sideraciones al 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mar apuntes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Organización 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Fech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e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egibilida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Orden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impie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0:51:52Z</dcterms:created>
  <dc:creator>computoprim</dc:creator>
  <dc:description/>
  <dc:language>en-US</dc:language>
  <cp:lastModifiedBy>User</cp:lastModifiedBy>
  <dcterms:modified xsi:type="dcterms:W3CDTF">2020-03-23T18:26:19Z</dcterms:modified>
  <cp:revision>19</cp:revision>
  <dc:subject/>
  <dc:title>Como tomar apun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3082</vt:lpwstr>
  </property>
</Properties>
</file>