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EA1-CC9E-4287-BCA5-FB7305AE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918-709C-4CFC-8914-8C63E898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6FEB-9223-4AD2-8A5F-253852C7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E1C-D90C-4E76-8249-47F70ED3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6194-2BDC-4877-B46E-7814D256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E699-90EE-4B55-A4DF-F515FC1F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C818-7A11-4C0D-9171-4DAFA96E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AA7E-00E3-4F40-9224-5BE327AE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A401-86B0-4079-AA06-C4FF5776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0979-EBF6-4FD3-AFEB-904F9FEB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9F5C-6BFD-47A0-934F-912A22EF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56E1-AAC8-4047-ADA4-CFB28C42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8CC7-DCC6-47E8-A0E7-5AE1E044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D4A5-A29C-4A46-B20C-EE28955A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B64C-A550-4FBD-8A58-93B47005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88A6-1C41-4CA2-A836-24738519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003E-379E-4A67-9DD0-7FBC205D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4F0-B799-456F-A200-DDF3E57F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BC0-036C-450B-8B6F-13FD45A0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745-BF97-48F5-8F7D-273355B8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4FF-B6A9-4FD1-9841-23E0DF86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59B-EA4D-4D86-8990-2B8692A5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3DB-9C1C-417F-8405-EA74C1B1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D1F-A5BA-46E0-BB0A-50CC89C8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A3B7-EA2E-450A-9D2E-62DA5030966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9BFB-F6E5-439E-A7E3-711928CCE16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Técnicas de Estudio: </a:t>
            </a:r>
            <a:br>
              <a:rPr sz="5400"/>
            </a:b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br>
              <a:rPr sz="5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f. Guenaoui Amari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versidad de Tlemc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ÍND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 ASPECTOS QUE CONDICIONAN LA TOMA DE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. CÓMO TOMAR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3. FÓRMULA IDEAL DE TOMAR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4. CÓMO DETECTAR LAS IDEA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5. QUÉ HACER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1258920" y="2205000"/>
          <a:ext cx="74898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74898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ÓMO TOMAR APU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un cuaderno o bloc de ani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hojas identificadas (asignatura, tema y fech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o utilizar la misma hoja para asignaturas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umerar las ho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jar márgenes y sang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inta azul o negra y escritura rápida pero le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abreviaturas (confección de un código prop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rdenación visual con títulos y subtít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oraciones con estructura 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elementos gráficos: dibujos, esquema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visión de notas y puesta al día al llegar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ÓMO DETECTAR LAS IDEAS IMPOR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tender las llamadas de atención del profes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piar los guiones expuestos en la piza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terpretar los lenguajes no verbales del profe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tilizar el vocabulario específico y técnico emple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cribir literalmente las defin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estar atención durante toda la ex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eguntar en caso de d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051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UÉ HACER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eer y revisar los apuntes al llegar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letar ideas y 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escritura jerarquizada en apartados del contenido en lim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oraciones más elabo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alización de esquemas o res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BS00559_"/>
          <p:cNvPicPr/>
          <p:nvPr/>
        </p:nvPicPr>
        <p:blipFill>
          <a:blip r:embed="rId1"/>
          <a:stretch/>
        </p:blipFill>
        <p:spPr>
          <a:xfrm>
            <a:off x="1187280" y="2637000"/>
            <a:ext cx="37339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8640"/>
            <a:ext cx="373392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erda que la primera meta importante de tu vida es consegu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aduado esc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tienes que prepara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¡Saca lo mejor de t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s técnicas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 ayudará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PE03166_"/>
          <p:cNvPicPr/>
          <p:nvPr/>
        </p:nvPicPr>
        <p:blipFill>
          <a:blip r:embed="rId1"/>
          <a:stretch/>
        </p:blipFill>
        <p:spPr>
          <a:xfrm>
            <a:off x="4952880" y="1839960"/>
            <a:ext cx="37339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4" descr=""/>
          <p:cNvPicPr/>
          <p:nvPr/>
        </p:nvPicPr>
        <p:blipFill>
          <a:blip r:embed="rId1"/>
          <a:stretch/>
        </p:blipFill>
        <p:spPr>
          <a:xfrm>
            <a:off x="1133640" y="1798560"/>
            <a:ext cx="7443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07:22:12Z</dcterms:created>
  <dc:creator>NEC Computers International</dc:creator>
  <dc:description/>
  <dc:language>en-US</dc:language>
  <cp:lastModifiedBy>User</cp:lastModifiedBy>
  <dcterms:modified xsi:type="dcterms:W3CDTF">2017-12-02T18:24:22Z</dcterms:modified>
  <cp:revision>20</cp:revision>
  <dc:subject/>
  <dc:title>LA TOMA DE APUNTES         Técnicas de estudio 3º ESO</dc:title>
</cp:coreProperties>
</file>