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903C-198A-475B-82A7-E0D3BDBC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879-3435-4B4B-8B48-D1185185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FCF-CF37-44C2-A1FC-6BA8C314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265-1BC3-4C84-A1EB-E2AD1A4AB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AA7E-0957-4EEC-A50B-7E5F1343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CF61-680B-4C3F-AEF1-4C419602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5216-1419-405E-B4F1-B5CC07DF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B8D1-0CB9-40AF-89C4-D9620CC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2AED-F193-4A99-99D9-64A440C0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8BF4-736E-4B0F-8DF4-68C0607C6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70E9-D63F-4D57-B8A9-477DC6D4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191-3C98-4939-9ACE-68DDC220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C06F-094C-4BFD-8AF3-D96122F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22BD-CD25-4D63-B0F1-DDF17F4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B9F6-9EF9-4926-8ACD-3263823A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F467-45B9-406F-A258-18F2FDA7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ADAE-D72D-43F6-A9C0-1072F520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DDD141-FA72-4067-846D-D1502B93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8413B-CA5D-4CD6-9341-E6800CA4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BF1C3-6CFC-4057-9FF1-2E839564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65406-1A41-4326-B4E0-F65D2201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8DD95-81B1-4269-97FF-3341A775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2541-0FA1-4AF8-A63F-32916B63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7BFA1-978A-4400-A4B5-A238AF5F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20AE0-BB73-4B8F-B674-14AA3DE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07CEFA-AF43-4AD3-A3AD-3FFC7BAF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F924C3-A5F8-4B5A-8961-1C89715D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518A7-2BA1-4FC8-82A1-7770CE73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2E714C-51C4-40D8-97AC-F490754C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FEAE6-1C71-4E53-B3FE-010B3FD9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A0B27-D335-451F-A947-BD2A71AB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61F80-27D1-477F-875E-8D87439C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5DCA-DDA6-4A7E-9A1E-205C7AF2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A26C-CE78-4D4F-8D50-659CE863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32E71-9788-4B88-A357-1BE8637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020C5-C7BC-4947-8278-F137C610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BA011-37D9-4D3B-8E77-FB817932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2C8E-B419-41BA-ABE2-D5756EB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8124-C513-4A88-B725-92A0E31F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111DB-16CA-408C-AB0E-2E5DF1EA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A3452-D2F8-4C5D-9E1E-34591307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A961A-3CE8-4B10-83FE-122CF9C4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404E1-3963-4D0C-A9EF-8C36FBE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EA7A3-DA2A-489E-8C5D-226E3584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57A6-7292-4632-9755-9D8FF901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707E1-E806-412E-8A73-0F0A58F8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EC7F08-F328-4D92-AA7C-82B9A70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77019D-6C44-4D9F-B81E-80C98C78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4BCEE-0A4C-4631-8FE6-9B92898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76B111-5517-495E-8873-A5390657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59385-D770-4D3A-8108-2915646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62046-D035-4FD5-BC98-F6AE9352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889A9-510F-4252-B7FF-D53DD703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A741E-4948-485C-898E-47285C35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775F7-0DBE-4779-8284-9DEF6EEF2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87A-C5B9-483D-A13D-9DEF4677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B00E9D-4383-4867-A688-0E748223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A08D2E-E607-4769-9CF2-67D9BA58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518F7-1D7B-441D-B73E-F17EBBEA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E5287E-D6F5-4D81-93E1-D939E6BD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2FAE5C-3D72-4E74-A8EC-41E6663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242EA-A646-479F-A3EA-8D291155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E443A-107E-43C7-A06B-DFA8AAB5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3008A-400F-47F1-8858-9A4456E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2D317D-43C7-4111-8773-2CB2768F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75E0D8-1D4A-4993-A261-D6A105A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17C-9067-444B-8204-59820778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9FBC2-8221-404F-AD3E-B628D1CE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C88EFE-322D-4CEF-9F84-5910B5C8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43431-ABC0-46BB-9371-FB979ED4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8ADCA7-1605-4FE3-A282-84D5062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0679F-0A00-446C-891F-2665D46E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A56684-A4C4-4F43-8446-7D3BE855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E920A-CF2C-4DAF-BE8A-B1084FC1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4041A-09FB-4356-9973-58B03812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CB633-5329-49A0-8756-F845145D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88BEEE-584E-45AD-B74A-8217CBD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92C-C61D-46FC-A3FB-2BB2876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33E204-F976-4A16-9091-293FC9C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C0CD8-B877-42DE-BBD6-112654E2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B517E6-88D9-4933-A24A-6289C372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88799-BE29-4CCF-B907-05E4381AD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8ACB62-A46A-43DA-A322-3EC67333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AF9-078E-4464-A1C6-FD7F15D5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5E11-A8A5-4BCF-A0DF-CBFD3DD3FB3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316C-B079-4D55-B644-5238B017B445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8B5-764D-426E-BB31-3EBDFE02B2CC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llipse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250-7999-4A2D-A741-691B14A20D93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237A-EBC0-48F6-AFDE-5D484A01501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onnecteur droi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llipse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323B-DC5E-4CF8-8CFB-EA6962B567C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Ellipse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Connecteur droi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4C4A-E3E4-4317-9029-145A69895FD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14720" y="404280"/>
            <a:ext cx="692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75f6d"/>
                </a:solidFill>
                <a:latin typeface="Century Schoolbook"/>
              </a:rPr>
              <a:t>LA UNIVERS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142720" y="4572000"/>
            <a:ext cx="6697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Prof. Sra. A. Bensaada Guenaoui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Universidad de Abou Bekr Belkaid/Tlemce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Departamento de Lenguas Extranjera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75f6d"/>
                </a:solidFill>
                <a:latin typeface="Century Schoolbook"/>
              </a:rPr>
              <a:t>Sección de Español/   1°L /2019-202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575f6d"/>
                </a:solidFill>
                <a:latin typeface="Century Schoolbook"/>
              </a:rPr>
              <a:t>Asignatura: Técnicas del trabajo universitar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ORIGEN DE LAS UNIVERSIDADRE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De dónde surg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De las iglesias / Monasterios: que cultivaban el amor por las letras y las art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racticaban el trabajo manual y la oración comunitaria. Se cultivó en las monjas la lectura y la escritur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MONASTERIOS BENEDICTINOS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San Benito de Nursia (480?-547?), era fundador del monasterio de montecassin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primeros en lograr un ordenamiento educativo curricul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Estudiaban en monasterios: los hijos varones de la nobleza, hijos de aldeanos y artesanos que aspiraban a la vida monásti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510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LOS CONFLICTOS ENTRE LA IGLESIA Y EL ESTADO DAN ORIGEN A LAS UNIVERSIDADES.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universidad nació en la edad media </a:t>
            </a: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(siglo XII- 1119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¿Qué es Universidad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 Institución de Enseñanza superior donde se discute y difunde el saber. Oportunidad para escribir, leer, indagar, escuchar y discuti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PRINCIPALES ORGANIZACIONES UNIVERSITARI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23640" y="1484280"/>
            <a:ext cx="8569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Primera universidad: Bolonia, siglo XII (año 1119): se especializó en Derecho-Leyes, matemáticas, filosofía, astronomía, medicina y farmacia. (congregacion de estudiantes, 10.000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Universidad de maestros: Paris-Año 1150. Gran universidad Teológica más importante de Europa (congregación de maestros)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75f6d"/>
                </a:solidFill>
                <a:latin typeface="Century Schoolbook"/>
              </a:rPr>
              <a:t>P</a:t>
            </a:r>
            <a:r>
              <a:rPr b="0" lang="fr-FR" sz="3600" spc="-1" strike="noStrike">
                <a:solidFill>
                  <a:srgbClr val="575f6d"/>
                </a:solidFill>
                <a:latin typeface="Century Schoolbook"/>
              </a:rPr>
              <a:t>RIMERAS UNIVERSIDADES EUROPEAS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Oxford (1167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Cambridge (120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Padua(1222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Salerno(1224) ahora es Nápol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Tolosa (1229) Teólogos-herejía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U. de Montpellier (1259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entury Schoolbook"/>
              </a:rPr>
              <a:t>En Europa, siglo XVI funcionaron 79 universidades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575f6d"/>
                </a:solidFill>
                <a:latin typeface="Century Schoolbook"/>
              </a:rPr>
              <a:t>CARACTERÍSTICAS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Los estudios tenían 4 o 5 facultades de acuerdo al permiso del Papa o el Re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 Menor o de Artes: Lógica, Matemáticas,Gramática y mús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entury Schoolbook"/>
              </a:rPr>
              <a:t>Facultades Mayores: Medicina, Teologiía, Derecho Canónico y Civi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6:11:45Z</dcterms:created>
  <dc:creator>acer</dc:creator>
  <dc:description/>
  <dc:language>en-US</dc:language>
  <cp:lastModifiedBy>User</cp:lastModifiedBy>
  <dcterms:modified xsi:type="dcterms:W3CDTF">2020-03-23T18:23:37Z</dcterms:modified>
  <cp:revision>16</cp:revision>
  <dc:subject/>
  <dc:title>LA UNIVERSIDAD</dc:title>
</cp:coreProperties>
</file>