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37e8f"/>
                </a:solidFill>
                <a:latin typeface="Comic Sans MS"/>
              </a:rPr>
              <a:t>Click to move the slide</a:t>
            </a: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818AE-EF98-4D6E-8B97-A65131FEBB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7C585-EB15-4CF7-935F-08892E5970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05426-1DEC-4048-9B7B-828B003621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7AC43-F365-4595-A76D-0598C252C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47560" y="396432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365CC-97DD-41F3-9F5A-8E6FD8727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951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BED56-D6E6-4B7F-9FB3-A3949DDAF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2040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9324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4756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92040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9324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8A3F6-86C2-4859-B41C-FB1B69612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48DC6-FBB3-42F1-8F0B-A1DE61EF2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EACCF-B0AF-43E0-AD26-44B4C0F62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0DA76-074A-422F-8B1C-E7EAEFB5C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30C05-AA05-4F77-B7DF-53D16FE6A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54BE0-AD57-48AC-8E03-17A6307AA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447560" y="274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E0494-AB98-47C3-81CC-B36342310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E622F-8489-4FE1-8C41-308687388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84F18-9527-4CCD-9916-8208AD310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951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CBEB7-C6F0-4797-8806-EA1381906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3FC3F-B543-4CA1-BAFD-B6A10BF54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447560" y="396432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D753D-DB4F-4845-AFCA-672A0BE48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951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D88A2-7E3E-4612-993A-36D3CEA45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92040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39324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44756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92040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39324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45870-3694-40E7-8F7C-412F584D1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C7824-5C57-47BF-9597-364563CBC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F3397-1112-4D36-A60C-CB48BC4AF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1759B-351D-4A85-A3D1-45D75CC6C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47560" y="274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6097F-8D6D-43EE-8A8C-B2C7D5507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0D6DC-94F1-44DC-BC46-B680F2898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951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39E17-BEE8-4BE5-8146-48FF4F183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248F7-CEC4-4E3B-8E85-B3F50CC8D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37e8f"/>
                </a:solidFill>
                <a:latin typeface="Comic Sans MS"/>
              </a:rPr>
              <a:t>Click to edit the title text format</a:t>
            </a: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1" marL="668520" indent="-257040">
              <a:spcBef>
                <a:spcPts val="9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2" marL="1028520" indent="-20556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3" marL="1440000" indent="-205560">
              <a:spcBef>
                <a:spcPts val="9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4" marL="1851480" indent="-205560">
              <a:spcBef>
                <a:spcPts val="901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5" marL="1851480" indent="-205560">
              <a:spcBef>
                <a:spcPts val="901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6" marL="1851480" indent="-205560">
              <a:spcBef>
                <a:spcPts val="901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425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733560" y="6524640"/>
            <a:ext cx="289548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3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50A78-C440-4F16-A08D-07C65A37B1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37e8f"/>
                </a:solidFill>
                <a:latin typeface="Comic Sans MS"/>
              </a:rPr>
              <a:t>Click to edit the title text format</a:t>
            </a: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1" marL="668520" indent="-257040">
              <a:spcBef>
                <a:spcPts val="9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2" marL="1028520" indent="-20556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3" marL="1440000" indent="-205560">
              <a:spcBef>
                <a:spcPts val="9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4" marL="1851480" indent="-205560">
              <a:spcBef>
                <a:spcPts val="901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5" marL="1851480" indent="-205560">
              <a:spcBef>
                <a:spcPts val="901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6" marL="1851480" indent="-205560">
              <a:spcBef>
                <a:spcPts val="901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14425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733560" y="6524640"/>
            <a:ext cx="289548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7813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1C018-0A3A-4E79-B433-DDD103074F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1428480" y="4786200"/>
            <a:ext cx="7313400" cy="66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Comic Sans MS"/>
              </a:rPr>
              <a:t>Prof. </a:t>
            </a: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A. Guenaoui Bensaad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Universidad de Tlemce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Departamento de español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Febrero de 2020 / </a:t>
            </a:r>
            <a:r>
              <a:rPr b="1" lang="ar-DZ" sz="2000" spc="-1" strike="noStrike">
                <a:solidFill>
                  <a:srgbClr val="000000"/>
                </a:solidFill>
                <a:latin typeface="Comic Sans MS"/>
              </a:rPr>
              <a:t>1 </a:t>
            </a: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WordArt 4"/>
          <p:cNvSpPr txBox="1"/>
          <p:nvPr/>
        </p:nvSpPr>
        <p:spPr>
          <a:xfrm>
            <a:off x="1143000" y="1857240"/>
            <a:ext cx="7818480" cy="15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¿Cómo tomar apuntes?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med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37e8f"/>
                </a:solidFill>
                <a:latin typeface="Comic Sans MS"/>
              </a:rPr>
              <a:t>Aprende a escuchar:</a:t>
            </a: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428480" y="2214720"/>
            <a:ext cx="7313400" cy="37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Desde el principio al fi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just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Las repeticiones del maestro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just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Los cambios en el tono de voz y la velocidad al hablar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37e8f"/>
                </a:solidFill>
                <a:latin typeface="Comic Sans MS"/>
              </a:rPr>
              <a:t>Debes de estar atento a:</a:t>
            </a: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69800" y="17002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906480" indent="0">
              <a:spcBef>
                <a:spcPts val="901"/>
              </a:spcBef>
              <a:buNone/>
              <a:tabLst>
                <a:tab algn="l" pos="0"/>
                <a:tab algn="l" pos="1155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00000"/>
                </a:solidFill>
                <a:latin typeface="Comic Sans MS"/>
              </a:rPr>
              <a:t>Las palabras o frases claves: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906480" indent="-48600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1155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no debemos olvidar”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906480" indent="-48600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1155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en resumen ….”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906480" indent="-48600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1155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para terminar….”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906480" indent="-48600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1155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lo más importante es …..”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906480" indent="-48600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1155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concluyendo……”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906480" indent="0">
              <a:spcBef>
                <a:spcPts val="901"/>
              </a:spcBef>
              <a:buNone/>
              <a:tabLst>
                <a:tab algn="l" pos="1155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37e8f"/>
                </a:solidFill>
                <a:latin typeface="Comic Sans MS"/>
              </a:rPr>
              <a:t>Cuando tomes apuntes…….</a:t>
            </a: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827360"/>
            <a:ext cx="7858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Identifica los puntos principales del tema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Capta las ideas principale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No trates de anotarlo todo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Usa hojas sueltas en un fólder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Separa las ideas por párrafo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Usa un papel nuevo para temas nuevo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Amplia e intercambia apuntes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Crea tu propio sistema de abreviaturas como en el chat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37e8f"/>
                </a:solidFill>
                <a:latin typeface="Comic Sans MS"/>
              </a:rPr>
              <a:t>Cuando tomes apuntes…….</a:t>
            </a: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</p:spTree>
  </p:cSld>
  <p:transition spd="med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3400" cy="606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37e8f"/>
                </a:solidFill>
                <a:latin typeface="Comic Sans MS"/>
              </a:rPr>
              <a:t>En resumen:</a:t>
            </a:r>
            <a:endParaRPr b="1" lang="en-US" sz="36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42920" y="1052280"/>
            <a:ext cx="756144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Los apuntes no son los dictados del profesor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No se aprende a tomar apuntes de un día para el otro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Debes darte la oportunidad de probar el sistema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No te desanimes, tomar apuntes se adquiere con la práctica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Organízate, ten presente que lo utilizarás hasta en la Universidad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79360" y="301320"/>
            <a:ext cx="76406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37e8f"/>
                </a:solidFill>
                <a:latin typeface="Comic Sans MS"/>
              </a:rPr>
              <a:t>Tomar apuntes ...</a:t>
            </a: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428480" y="1857240"/>
            <a:ext cx="7313400" cy="188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Ayuda a reforzar la atención sobre lo que dice el profesor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Va más allá de lo que dice el libro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3" name="Picture 6" descr="alumno_en_aula_de_clase"/>
          <p:cNvPicPr/>
          <p:nvPr/>
        </p:nvPicPr>
        <p:blipFill>
          <a:blip r:embed="rId1"/>
          <a:stretch/>
        </p:blipFill>
        <p:spPr>
          <a:xfrm>
            <a:off x="6516720" y="4508640"/>
            <a:ext cx="2232000" cy="18302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187280" y="476280"/>
            <a:ext cx="7313760" cy="224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 algn="just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Permite fijarnos en detalles que más tarde seremos capaces de recordar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-298440" algn="just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Aumenta la posibilidad de obtener mejores notas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5" name="Picture 5" descr="examen-egel-239x300"/>
          <p:cNvPicPr/>
          <p:nvPr/>
        </p:nvPicPr>
        <p:blipFill>
          <a:blip r:embed="rId1"/>
          <a:stretch/>
        </p:blipFill>
        <p:spPr>
          <a:xfrm>
            <a:off x="6877080" y="4076640"/>
            <a:ext cx="1827360" cy="23036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37e8f"/>
                </a:solidFill>
                <a:latin typeface="Comic Sans MS"/>
              </a:rPr>
              <a:t>¿Qué es tomar apuntes?</a:t>
            </a: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69800" y="1700280"/>
            <a:ext cx="731340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Es el acto de anotar los puntos más saltantes de una clase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Es una actividad que apoya el estudio y el aprendizaje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8" name="Picture 7" descr="nino"/>
          <p:cNvPicPr/>
          <p:nvPr/>
        </p:nvPicPr>
        <p:blipFill>
          <a:blip r:embed="rId1"/>
          <a:stretch/>
        </p:blipFill>
        <p:spPr>
          <a:xfrm>
            <a:off x="5796000" y="4508640"/>
            <a:ext cx="3025800" cy="20174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69800" y="18864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37e8f"/>
                </a:solidFill>
                <a:latin typeface="Comic Sans MS"/>
              </a:rPr>
              <a:t>Ventajas de tomar apuntes</a:t>
            </a: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69800" y="1628640"/>
            <a:ext cx="7313400" cy="188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Te mantiene activo en la clase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Mejora la memorización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Muy útil para el repaso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1" name="Picture 7" descr="20070417klplyllec_220"/>
          <p:cNvPicPr/>
          <p:nvPr/>
        </p:nvPicPr>
        <p:blipFill>
          <a:blip r:embed="rId1"/>
          <a:stretch/>
        </p:blipFill>
        <p:spPr>
          <a:xfrm>
            <a:off x="6084720" y="4579920"/>
            <a:ext cx="2737080" cy="18320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37e8f"/>
                </a:solidFill>
                <a:latin typeface="Comic Sans MS"/>
              </a:rPr>
              <a:t>Ventajas de tomar apuntes</a:t>
            </a: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Desarrolla el hábito de sintetizar o resumir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just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Permite retomar la explicación del maestro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just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Ayuda a seleccionar lo más importante de un. tema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4"/>
          <p:cNvSpPr/>
          <p:nvPr/>
        </p:nvSpPr>
        <p:spPr>
          <a:xfrm>
            <a:off x="1370160" y="301680"/>
            <a:ext cx="7313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37e8f"/>
                </a:solidFill>
                <a:latin typeface="Comic Sans MS"/>
              </a:rPr>
              <a:t>Al comenzar la cla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5"/>
          <p:cNvSpPr/>
          <p:nvPr/>
        </p:nvSpPr>
        <p:spPr>
          <a:xfrm>
            <a:off x="1476360" y="2060640"/>
            <a:ext cx="731376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Siéntate en un lugar cerca al profeso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Evita las distraccion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Adopta una postura adecuad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WordArt 4"/>
          <p:cNvSpPr txBox="1"/>
          <p:nvPr/>
        </p:nvSpPr>
        <p:spPr>
          <a:xfrm>
            <a:off x="2071800" y="1571760"/>
            <a:ext cx="6551640" cy="33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Consideraciones al </a:t>
            </a:r>
            <a:endParaRPr b="0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tomar apuntes</a:t>
            </a:r>
            <a:endParaRPr b="0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med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37e8f"/>
                </a:solidFill>
                <a:latin typeface="Comic Sans MS"/>
              </a:rPr>
              <a:t>Organización </a:t>
            </a:r>
            <a:endParaRPr b="1" lang="en-US" sz="4000" spc="-1" strike="noStrike">
              <a:solidFill>
                <a:srgbClr val="037e8f"/>
              </a:solidFill>
              <a:latin typeface="Comic Sans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Fecha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Tema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Legibilidad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Orden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Limpieza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0T10:51:52Z</dcterms:created>
  <dc:creator>computoprim</dc:creator>
  <dc:description/>
  <dc:language>en-US</dc:language>
  <cp:lastModifiedBy>User</cp:lastModifiedBy>
  <dcterms:modified xsi:type="dcterms:W3CDTF">2020-03-23T18:26:19Z</dcterms:modified>
  <cp:revision>19</cp:revision>
  <dc:subject/>
  <dc:title>Como tomar apunt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594373082</vt:lpwstr>
  </property>
</Properties>
</file>