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47A8-2215-406A-9761-DBEBADA8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B371-6675-4A63-AB6F-A1552803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3239-8D01-4F27-BD99-AFC9FB55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5471-0A88-40D3-9CAB-B63ED2B9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F980-9586-4BF9-B73F-8F514C85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A403-B1B5-441B-9104-7A98CD1D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9DA6-3383-4525-848E-102966D3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D78C-603A-47F0-9978-8A9B891A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10B3-202D-42D4-B179-59EB38F7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2F52-AFEF-47D9-A189-00719703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70FF-AAE9-40CD-B564-6E8E7911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10C7-B758-4351-A448-3F9E4833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6B6A-6721-4694-A142-DB16B7F7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79B1-2777-4CEA-984A-F8F6D361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037C-C9BD-4B6B-8831-4A2D7B2F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DAB2-05CA-40C8-A4DE-2B156253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93B7-F433-43F5-9C13-C8F6200F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9E1A1F-E189-4237-BA7A-5947A4E3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79135-C5C0-43A1-AC1E-E8718A97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CF2EE8-AE40-4903-8E5C-5E5A61C2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38D384-DC0F-45C4-B6D0-C6B03A2C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95B66-CCAE-4386-9A03-32369DF7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4CC0-B838-4ABC-9BAA-AD5FCCAB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AD831E-AE7F-453E-9C97-D44BE6D5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CFCF39-73EC-44B9-AEDB-2E57203B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53AA8-CC9F-4091-8FCE-DB14B147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A4F1D7-29FF-4F18-97D5-96054D36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E206E1-0069-466B-9C77-3727E4BC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111888-AE4D-4ECB-9E44-E1230E4D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1A2D3-F799-4E5C-A6E0-B71E5AD9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0DABD-1B9C-476D-9761-DD03D7C3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C0354-B364-43BA-B318-BED99AF4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2EFCD-ADB6-47B3-9B03-1E7A31F1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E447-EDCE-42C2-8B1B-DC57C8AF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67790-CBE9-482F-85E7-C681C288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752EE-778B-4547-90D5-A41C92B6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32226-2AA0-4058-8BAE-B3BB15B0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A7DEE-CC09-47A7-B6E3-CF59A946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DBF89-A2B4-45C2-A91C-E02355A6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854E1-FB5E-40DA-93F6-7A57D5F3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725E9-73D5-494D-B07E-C06D4B8D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EFB37-8B38-448E-B930-42ABD909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10E28-6CF0-4691-AB71-C50F766B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2BDF2A-A2DF-4B03-ABD9-1278FEB4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92B7-6FD5-44C7-9543-0E7BCAAE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B9ABC8-8BA3-4A4A-914A-ADB1A1F9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08713B-AA90-4E8A-811C-F0DA4AD4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A311EF-6ACA-4B1B-A8D5-DEDD0A3E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04C456-CD9A-4C1F-8CC1-C02F3F7F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555D43-5910-425A-91EA-8B2CA19F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891C89-0A6E-4BCD-8D6A-16F4CA68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A96096-F880-496B-B206-9F4DDE26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AA427A-B571-4429-B188-389A0769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AD654A-66B8-4E51-998A-418847CE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CE9AAA-B57E-4B58-ABB0-1C939372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02D0-43C2-4D09-AC57-39F002EC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02B674-C3F5-4EF6-905E-A339DF2F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C4886C-6111-404E-BD19-EC0A7F65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19A7EF-B294-4A9A-8C5F-03EDB120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B8DCBF-7B29-44CF-B099-35EF0848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683812-CCDC-4490-80A0-319B579C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15304E-39FF-40E3-B535-4CE08B7B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7ED130-6A68-4113-AD48-3AEA74A5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B08348-CDCD-4746-A234-3C68450F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6E12CB-869E-49ED-BDFE-38ADAB95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947316-22F5-4157-BE77-67583E69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CEDC-15E6-4067-A250-9CA180D5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BAE4C9-0154-43B5-B2FD-72B82AFB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EF1332-FE2F-4B7A-845A-18793D57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703D78-C0C6-405F-9DBE-767F03B0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B01033-6E70-4062-9CBB-052D0027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BE0D63-2516-4B9C-9612-B7625BD3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75A662-9069-4D04-ACC9-F606DE81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29E189-B746-403D-953E-C2E3C783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ED2398-DDCF-4C66-A259-0388B420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290432-FB8E-42B0-846E-94FA7D88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8B95BC-318D-4B45-B535-AA9A0B32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05B3-23DF-42BD-9A89-11E84EC4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7BB6DF-6320-4967-8884-4B5771D0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C8EAF4-4FD4-431F-889A-88E53AD1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E2C16A-F99F-42B5-B0A0-5A442F57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04F1EB-33AA-4D6C-999D-696926C0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8B8AAC-2AC9-45D1-9106-BDF1D912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9910-E988-422D-9DA3-5A474BFB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88C5-FE1B-43D4-ADFD-74DAAA9C208C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Connecteur droit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El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El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El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El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El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5F18-5FF3-48A0-8289-DE4E96E65D2F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0926-4C92-4026-81C6-8BE0DC1CD6A7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El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l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l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El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l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Connecteur droit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413F-071E-4628-99CC-355D22989CBD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C548-2748-4080-BB3E-96B3AF8D6C2E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Connecteur droit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Connecteur droit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Connecteur droit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Connecteur droit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El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AC88-79E2-4AE1-BC28-466CED6F3FF6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El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Connecteur droit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Connecteur droit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Connecteur droit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Connecteur droit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BB43-1377-40B6-A86B-E739AE47A95C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14720" y="404280"/>
            <a:ext cx="6929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575f6d"/>
                </a:solidFill>
                <a:latin typeface="Century Schoolbook"/>
              </a:rPr>
              <a:t>LA UNIVERS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142720" y="4572000"/>
            <a:ext cx="6697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Prof. Sra. A. Bensaada Guenaoui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Universidad de Abou Bekr Belkaid/Tlemce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Departamento de Lenguas Extranjer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Sección de Español/   1°L /2019-202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75f6d"/>
                </a:solidFill>
                <a:latin typeface="Century Schoolbook"/>
              </a:rPr>
              <a:t>Asignatura: Técnicas del trabajo universitari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ORIGEN DE LAS UNIVERSIDADRE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De dónde surg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e las iglesias / Monasterios: que cultivaban el amor por las letras y las ar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racticaban el trabajo manual y la oración comunitaria. Se cultivó en las monjas la lectura y la escritur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MONASTERIOS BENEDICTINO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San Benito de Nursia (480?-547?), era fundador del monasterio de montecassin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primeros en lograr un ordenamiento educativo curricul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Estudiaban en monasterios: los hijos varones de la nobleza, hijos de aldeanos y artesanos que aspiraban a la vida monásti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LOS CONFLICTOS ENTRE LA IGLESIA Y EL ESTADO DAN ORIGEN A LAS UNIVERSIDADES.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universidad nació en la edad media 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(siglo XII- 1119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Qué es Universida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 Institución de Enseñanza superior donde se discute y difunde el saber. Oportunidad para escribir, leer, indagar, escuchar y discuti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PRINCIPALES ORGANIZACIONES UNIVERSITARI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23640" y="148428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Primera universidad: Bolonia, siglo XII (año 1119): se especializó en Derecho-Leyes, matemáticas, filosofía, astronomía, medicina y farmacia. (congregacion de estudiantes, 10.000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Universidad de maestros: Paris-Año 1150. Gran universidad Teológica más importante de Europa (congregación de maestros)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P</a:t>
            </a: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RIMERAS UNIVERSIDADES EUROPE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Oxford (1167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Cambridge (120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Padua(1222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Salerno(1224) ahora es Nápo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Tolosa (1229) Teólogos-herejía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Montpellier (125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En Europa, siglo XVI funcionaron 79 universidad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CARACTERÍSTICAS: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estudios tenían 4 o 5 facultades de acuerdo al permiso del Papa o el Re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 Menor o de Artes: Lógica, Matemáticas,Gramática y mús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es Mayores: Medicina, Teologiía, Derecho Canónico y Civi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6:11:45Z</dcterms:created>
  <dc:creator>acer</dc:creator>
  <dc:description/>
  <dc:language>en-US</dc:language>
  <cp:lastModifiedBy>User</cp:lastModifiedBy>
  <dcterms:modified xsi:type="dcterms:W3CDTF">2020-03-23T18:23:37Z</dcterms:modified>
  <cp:revision>16</cp:revision>
  <dc:subject/>
  <dc:title>LA UNIVERSIDAD</dc:title>
</cp:coreProperties>
</file>