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90DA-0BC5-44E6-90D5-42C5D027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585-8583-4A26-8587-556C1C0F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804C-17EC-4613-9BFB-0E3EA459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ED4-6655-4702-A057-C7963A41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921A-556D-4A47-8EEA-A25F40BD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A5A5-32A4-49C2-BC53-AE6C91BA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B610-6A5B-430A-A1C5-4D48E7A9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7E3F-7B05-4E89-8A8D-B0BFF08A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D1FC-77E5-403B-A2D3-61C646CB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FD91-32B1-4466-8C58-2CA506FA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BA64-B8E4-41A8-8D08-ED45F915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E1D5-91AC-4718-940F-B520C904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C154-583D-42A0-B612-99CD9FC8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256E-1269-4365-8683-B6B3BD1A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19B5-781D-49CF-9DD3-1E7624B6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430FB-7970-4EDA-8471-62F43252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DD2E-F236-4168-8BCE-99C375F9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515EF-BAF8-459E-97F7-A1205822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818C7-2B8E-4609-BF07-5E6F9940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149C07-90F1-490B-B7FA-BF266CFF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9EA01-ACC7-4359-BA66-A181AF63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0305B-8E1F-49BA-9C5F-E2994B84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CFB-0A2C-452D-86DA-1B5E1314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B014E-B096-436C-9974-37D23EFC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756E1-7780-47D5-871C-36D2BE41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8F613-EAA8-4FA8-85C4-E6B42E4A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D4E63-778B-4A59-BA7E-ACB501A5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E2F90-0934-4C41-A834-C446255B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10E97F-B553-4553-9408-75449BE3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47ED8-80F0-4F8A-A01D-ED10DAB2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A3EBE-9FB6-453C-A3A9-34C9A625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1FF64-96D7-4A28-91A1-D5D62E5B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1FD62-9C35-4109-8D4B-1216FABC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577-1CCB-423C-B44A-320D8931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D96BB-3547-48CF-9B94-F2402191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453A6-1599-45AF-A5E4-903A171C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724EF-8873-4146-B749-74427A57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AD92E-33E1-40BC-8B09-68A8715D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D896C-91F3-48EC-A704-F38561BE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2B226-5A6A-4952-AEB6-33994171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3BC5E-A68D-4720-9867-5C9065CA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40711-F5EE-4838-91BA-21AC07DE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5362A-B5BB-4C82-8D50-74A216BA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461EE-CA1A-4B9B-B94D-96FE8700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CCA-F9D4-4804-A215-CC7D7B59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5957C-E198-430B-BE7D-7ED197B0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D131F7-16EB-4844-B0C5-ED5AFA5C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45CCF4-89DC-4EA9-AD7A-50741D5D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262B85-505B-4E70-A322-0C455939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84BE77-8D3B-462B-8B1A-704598DA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FDF9BB-B882-46C7-88CD-F849DC8A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3C1039-676C-4FF6-8D9E-93D366D5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D6868C-BA78-45A6-A597-918D404B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78DCEE-ABB1-4D52-8C82-72A5B3A0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A0E09E-8AF6-416C-ADFA-360B94A3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B40E-8B36-4A62-8527-7E54346F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D8173-A55E-44F3-820E-09008648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3F7EE2-0BA7-4372-AA3A-535CD0F9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0DC99D-C635-4060-BFA8-8BC08D7D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B59B6B-03A4-42D7-A7B9-E324F3EE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8CC14A-E266-4DDF-9DB1-21B9AFA5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CFF272-2E6C-46F5-8FE2-5D4EB3E9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6C196C-477A-4202-A693-A87A2A51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4A47A9-9482-4769-8BFD-1A63E5C4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C89809-D2FA-4491-A718-F73D24BF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7C94CE-3DAA-45AC-9D6A-7011844F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7E1-3739-4BE1-BF08-CE939367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B19719-7B34-4A73-BAB3-3E53E69B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F7DCBE-7D6F-47F4-9E02-6C76F247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48BEEF-CE3D-4DB3-945B-1ABE81D5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F9BF08-08A5-444E-9682-D977F36E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1F2E31-7F73-41DB-9EC0-93C9EA9F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D26FAE-B137-43AF-9B31-614035F6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0C36ED-9C04-4A30-B3C4-72BC29F9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443162-9035-4BB3-B132-549707B2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3128C9-8A3E-43A4-BF9C-5BE8DE61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4E916A-381C-460D-BE60-42954009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CFBE-3E6C-457D-B31F-780EEA65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A0C23-A547-4C15-9F48-A5BA0868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80412F-7E95-42D0-BF6C-1579E36E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C2B7A6-BF56-4026-ACAD-5B6EFBEC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664ED0-3BBB-4066-9FB1-E889B622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569BCE-CEA1-432C-90A2-D74F4AAC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94B4-1B29-4A0B-87B3-BD50953E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8687-A019-42CA-B6DA-BAE001BCA3E5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Connecteur droit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0154-4D87-47CA-965D-8E981422FAE4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83D7-2992-4EEB-B234-8CABB3976736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onnecteur droit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E26A-91E5-41F9-BA32-F72EB5D4E816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34F7-09BB-4E7E-9D3C-90DF43B23E9F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Connecteur droi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onnecteur droi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Connecteur droi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onnecteur droi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5432-C6ED-4374-AAF8-B99462C3D66E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Connecteur droi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Connecteur droi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Connecteur droi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Connecteur droi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6CD4-481D-4E58-8A63-1C07EB1CE5A5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404280"/>
            <a:ext cx="692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75f6d"/>
                </a:solidFill>
                <a:latin typeface="Century Schoolbook"/>
              </a:rPr>
              <a:t>LA UNIVERS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142720" y="4572000"/>
            <a:ext cx="6697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Prof. Sra. A. Bensaada Guenaoui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Universidad de Abou Bekr Belkaid/Tlemc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Departamento de Lenguas Extranjer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Sección de Español/   1°L /2019-202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5f6d"/>
                </a:solidFill>
                <a:latin typeface="Century Schoolbook"/>
              </a:rPr>
              <a:t>Asignatura: Técnicas del trabajo universitar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ORIGEN DE LAS UNIVERSIDADR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De dónde surg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las iglesias / Monasterios: que cultivaban el amor por las letras y las ar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racticaban el trabajo manual y la oración comunitaria. Se cultivó en las monjas la lectura y la escritur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MONASTERIOS BENEDICTINO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San Benito de Nursia (480?-547?), era fundador del monasterio de montecassin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primeros en lograr un ordenamiento educativo curricu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Estudiaban en monasterios: los hijos varones de la nobleza, hijos de aldeanos y artesanos que aspiraban a la vida monásti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LOS CONFLICTOS ENTRE LA IGLESIA Y EL ESTADO DAN ORIGEN A LAS UNIVERSIDADES.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universidad nació en la edad media 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(siglo XII- 111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Qué es Universida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 Institución de Enseñanza superior donde se discute y difunde el saber. Oportunidad para escribir, leer, indagar, escuchar y discuti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PRINCIPALES ORGANIZACIONES UNIVERSITARI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23640" y="1484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Primera universidad: Bolonia, siglo XII (año 1119): se especializó en Derecho-Leyes, matemáticas, filosofía, astronomía, medicina y farmacia. (congregacion de estudiantes, 10.00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Universidad de maestros: Paris-Año 1150. Gran universidad Teológica más importante de Europa (congregación de maestros)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P</a:t>
            </a: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RIMERAS UNIVERSIDADES EUROPE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Oxford (1167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Cambridge (120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Padua(1222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Salerno(1224) ahora es Nápo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Tolosa (1229) Teólogos-herejí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Montpellier (125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En Europa, siglo XVI funcionaron 79 universidad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CARACTERÍSTICA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estudios tenían 4 o 5 facultades de acuerdo al permiso del Papa o el Re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 Menor o de Artes: Lógica, Matemáticas,Gramática y mús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es Mayores: Medicina, Teologiía, Derecho Canónico y Civi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6:11:45Z</dcterms:created>
  <dc:creator>acer</dc:creator>
  <dc:description/>
  <dc:language>en-US</dc:language>
  <cp:lastModifiedBy>User</cp:lastModifiedBy>
  <dcterms:modified xsi:type="dcterms:W3CDTF">2020-03-23T18:23:37Z</dcterms:modified>
  <cp:revision>16</cp:revision>
  <dc:subject/>
  <dc:title>LA UNIVERSIDAD</dc:title>
</cp:coreProperties>
</file>