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B6EF-266F-463D-9B5E-B8BC2863A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2425-C5F7-4A4C-99FD-B251B180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2FB5-46DF-4DB8-A680-2D62F7588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0ED1-458C-49F5-BD51-65A486942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A2E3-234C-4B95-B693-A88C716B5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11FD-78E8-4CA5-8D39-B6B74728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8C68-AC6F-424D-8BAF-B9E1EEFC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6096-91F1-4561-8045-1D2CE083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BC49-1784-4026-BF37-C8A2C6DD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745F-7D47-46ED-88C1-005BFC9F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B5C9-2E2D-461F-84ED-E0E0B228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29FC-EC33-4B9F-8F16-BB00C402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8B66-59F2-4FDD-9F37-649FC849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1541-DCC2-496A-8AEB-775D1B54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C3F3-A59B-4ABA-9BD9-3A970A8C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9B8D-56B9-4750-B1A1-541BE9E29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3B72-51CD-4442-9017-CFD8B6975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3AA933-27C9-43D4-8BBD-391BB7755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4A8309-D826-475E-89BE-DB138691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10FEAF-3B76-4BC8-AA71-07F936E0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B60B93-FF5C-4BB5-9868-5C6262D7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0EF56C-801F-4EFE-AF51-D4909FB3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1601-82E5-49DD-9A2C-D4754E1A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314B60-38E9-4DC2-A2EA-9D648ED9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07921C-E789-418A-B1CC-6247F5F7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10063A-00F4-4590-B652-D4C8046E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68D5F4-1E86-4862-9643-8D8C1465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87EA0A-A387-4E2F-A493-2F519761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E4B326-6BD2-4E3B-A739-C52422426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AC0461-B716-4CE7-8706-214B6203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240C6-17FA-4503-92D8-09CF68314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1BED7-CBF5-4338-86E3-694C301D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D0956-12CD-40D3-A117-8E03F2F0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6A5F-6B0E-4712-B829-8B1535CB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8D723-F869-444A-B2F7-DC0D4946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E5D94-48C9-4406-91EB-8AB21A46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3288E-6154-4E83-93C7-CA9155FA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FBDC6-89EB-4FA2-B57F-3FBBC6A5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BEA46-BB1F-41D3-837B-21666EDB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23C5E-8887-459D-8175-8D6F0D41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A7000-1ED0-4A30-8915-702CA2BD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DE4E8-D7B5-425F-8FE4-DBC1E6D82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8223C-E804-4045-9A51-16C09BA2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7D5453-B268-4BEA-8921-ABD5D43BC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2B99-4F4A-4D75-BA5F-9FD323BF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D297CC-CFC3-4534-A2BC-0F8B8002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1988DC-5D84-4448-8B04-815FA82D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10C894-B06A-47FA-9C8A-666D2594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50EC4D-4916-4BC8-832A-5E768D45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05CC87-26E8-40BB-B9A2-63796100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458CE7-0C6F-49D1-A38A-5C701BE1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C1D725-2152-4EC8-9127-57811BDE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A55350-3226-47A9-A9A2-26AD11EF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0888EF-FD5B-4BB7-9972-6381673B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A87F23-CD40-45AA-BB84-AC538360C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AB00-ED12-489B-8B63-47E0F7F1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0A39D6-6465-4B10-9C3D-E530A8C66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C92EDC-4581-44E0-9051-F05FCF6C1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0C7C58-9ED1-455A-BF3C-379AEBDC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CE84D3-0F7D-431D-837A-F4B58EE8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59A1DD-333E-4EAB-9374-F7060FDB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22678A-5B32-4A01-84D4-D1A45647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72F8D1-A942-49EE-8786-C77F11F2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CBC6F7-E3AD-46B0-9D94-C8914241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7A41B5-377F-44F4-870C-054AD52B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A41436-EE92-4E36-A003-0E4948B5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A01B-34E9-4F02-82FF-9972E102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4797C8-FC12-4895-B41A-3FEB06DC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C73275-1E84-4312-8FB3-BEA61F5BD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A6FD96-3076-4348-9FD3-81EB79470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32B392-6519-4BA0-A300-F5C50E38E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BB17B4-012B-4CF1-A6F6-4E4EC7C4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FAFB1E-7631-4264-AF6B-C710A256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1C83DB-5AA7-4E5A-A13A-B295EC3A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274F6B-5E40-41D9-8552-3A3EE128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CEFEAE-8871-4838-9BA2-9858E7E0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95A3B7-9AF1-453D-86A2-AD403022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66C2-2E7B-441F-8E6C-C2154B17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0EC347-6254-4589-9022-D0FE5A9C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F89D63-7A60-4916-B9D8-C2F613C3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39AF7B-D7E2-4E1E-8826-9CD49E5A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E9CD41-2A58-430F-8F83-A0712D958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C53A15-674D-4817-A130-0F4CCD17E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74AD-DE4C-4A54-ACD5-7E62F72C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CDC5-7A04-4EC5-9A3A-406127442973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Connecteur droit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Connecteur droit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Connecteur droit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Connecteur droit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Connecteur droit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Connecteur droit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El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Ellips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El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Ellips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Ellips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CE15-5BBD-42E9-A327-4342E90B62B6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9272-1011-4A5E-80B2-D0BB366976F0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Connecteur droit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Connecteur droit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Connecteur droit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Connecteur droit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Connecteur droit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Ellips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Ellips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Ellips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Ellips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Ellips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Connecteur droit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E4D9-9EBF-459B-B152-03C9D9CD3346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5F5F-80F5-46BB-B524-22C96FDDE994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necteur droit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Connecteur droit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Connecteur droit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Connecteur droit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Connecteur droit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Ellips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E6C9-0340-4BCE-B95A-7D79187E48B7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necteur droit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Ellips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Connecteur droit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Connecteur droit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Connecteur droit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Connecteur droit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1E1E-E788-47C6-8212-0A5D5E7C4F59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14720" y="404280"/>
            <a:ext cx="69292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575f6d"/>
                </a:solidFill>
                <a:latin typeface="Century Schoolbook"/>
              </a:rPr>
              <a:t>LA UNIVERS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142720" y="4572000"/>
            <a:ext cx="6697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Prof. Sra. A. Bensaada Guenaoui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Universidad de Abou Bekr Belkaid/Tlemce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Departamento de Lenguas Extranjera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Sección de Español/   1°L /2019-2020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75f6d"/>
                </a:solidFill>
                <a:latin typeface="Century Schoolbook"/>
              </a:rPr>
              <a:t>Asignatura: Técnicas del trabajo universitari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ORIGEN DE LAS UNIVERSIDADRE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¿</a:t>
            </a: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De dónde surge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De las iglesias / Monasterios: que cultivaban el amor por las letras y las art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racticaban el trabajo manual y la oración comunitaria. Se cultivó en las monjas la lectura y la escritur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MONASTERIOS BENEDICTINO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San Benito de Nursia (480?-547?), era fundador del monasterio de montecassin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Los primeros en lograr un ordenamiento educativo curricul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Estudiaban en monasterios: los hijos varones de la nobleza, hijos de aldeanos y artesanos que aspiraban a la vida monástic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510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5f6d"/>
                </a:solidFill>
                <a:latin typeface="Century Schoolbook"/>
              </a:rPr>
              <a:t>LOS CONFLICTOS ENTRE LA IGLESIA Y EL ESTADO DAN ORIGEN A LAS UNIVERSIDADES.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01680" y="1412640"/>
            <a:ext cx="85406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 universidad nació en la edad media </a:t>
            </a: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(siglo XII- 1119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¿Qué es Universidad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 Institución de Enseñanza superior donde se discute y difunde el saber. Oportunidad para escribir, leer, indagar, escuchar y discuti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75f6d"/>
                </a:solidFill>
                <a:latin typeface="Century Schoolbook"/>
              </a:rPr>
              <a:t>PRINCIPALES ORGANIZACIONES UNIVERSITARIA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23640" y="1484280"/>
            <a:ext cx="8569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Primera universidad: Bolonia, siglo XII (año 1119): se especializó en Derecho-Leyes, matemáticas, filosofía, astronomía, medicina y farmacia. (congregacion de estudiantes, 10.000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Universidad de maestros: Paris-Año 1150. Gran universidad Teológica más importante de Europa (congregación de maestros)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5f6d"/>
                </a:solidFill>
                <a:latin typeface="Century Schoolbook"/>
              </a:rPr>
              <a:t>P</a:t>
            </a:r>
            <a:r>
              <a:rPr b="0" lang="fr-FR" sz="3600" spc="-1" strike="noStrike">
                <a:solidFill>
                  <a:srgbClr val="575f6d"/>
                </a:solidFill>
                <a:latin typeface="Century Schoolbook"/>
              </a:rPr>
              <a:t>RIMERAS UNIVERSIDADES EUROPEA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Oxford (1167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Cambridge (1209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Padua(1222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Salerno(1224) ahora es Nápo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Tolosa (1229) Teólogos-herejía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Montpellier (1259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En Europa, siglo XVI funcionaron 79 universidad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CARACTERÍSTICAS: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Los estudios tenían 4 o 5 facultades de acuerdo al permiso del Papa o el Re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Facultad Menor o de Artes: Lógica, Matemáticas,Gramática y músi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Facultades Mayores: Medicina, Teologiía, Derecho Canónico y Civi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6:11:45Z</dcterms:created>
  <dc:creator>acer</dc:creator>
  <dc:description/>
  <dc:language>en-US</dc:language>
  <cp:lastModifiedBy>User</cp:lastModifiedBy>
  <dcterms:modified xsi:type="dcterms:W3CDTF">2020-03-23T18:23:37Z</dcterms:modified>
  <cp:revision>16</cp:revision>
  <dc:subject/>
  <dc:title>LA UNIVERSIDAD</dc:title>
</cp:coreProperties>
</file>