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FD86-14C9-45C1-B50C-D1AC7C292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9355-D7CE-4BFF-B638-9862E32DF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E6E8-2EE4-4AAE-BFEE-877EE1536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ACFD-875A-49F9-89DF-22B9FD8D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A64-92F7-42AB-8730-D7395EF4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91E5-59A2-4D48-B04A-002C4E8D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A6B0-62F4-473C-8800-4A687614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30AC-83D7-421F-B860-2257CC36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06F4-64B8-4E3E-9ACD-B84F5F67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9F93-1725-4B5F-87F9-B3840A6A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9AA9-309C-4F68-9A5D-84BFAB87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CD24-D4D0-4157-99A1-BB9E0A9F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D944-90E7-4966-A7E7-01E4DC26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33AF-BF78-4B52-A44D-F739988C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65F-2FCE-41C0-8FF0-148C9852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6843-D65E-4C6D-80E6-E24D9661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5AC8-1629-4D29-89DD-7512B649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34D5-BF12-423E-A09E-07F46CDF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0D77-1FA8-4246-86B9-4F70D3C2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4EED-090F-40EA-987F-CDEDE17A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62B-4028-44E9-ACFE-3A5DECEB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872-A698-4E42-8AFE-B8AC33CE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8D8-DF4A-40B0-8956-895C76C5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004-F17F-4A7D-8891-BD7C25BE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3E6-E334-42F3-9B0D-6159306C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798-3985-4594-8F1C-E4A3AC52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C71-18E1-4D44-BED7-94A61746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31E8-0AAE-454B-9A1D-7E14F9E97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BF96-D57C-4CCE-BA6E-1F15C4D5C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8480" y="4786200"/>
            <a:ext cx="73134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Prof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. Guenaoui Bensa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Universidad de Tlemc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partamento de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ebrero de 2020 / </a:t>
            </a:r>
            <a:r>
              <a:rPr b="1" lang="ar-DZ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143000" y="1857240"/>
            <a:ext cx="78184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¿Cómo tomar apunte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prende a escuchar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2214720"/>
            <a:ext cx="7313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de el principio al f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as repeticiones del maest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s cambios en el tono de voz y la velocidad al habl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Debes de estar atento a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064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Las palabras o frases clav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debemos olvidar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 resumen 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ara terminar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 más importante es ….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cluyendo……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0"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dentifica los puntos principales del tem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apta las ideas principa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trates de anotarlo to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hojas sueltas en un fóld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epara las ideas por párraf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un papel nuevo para temas nuev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mplia e intercambia apun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rea tu propio sistema de abreviaturas como en el ch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37e8f"/>
                </a:solidFill>
                <a:latin typeface="Comic Sans MS"/>
              </a:rPr>
              <a:t>En resumen:</a:t>
            </a:r>
            <a:endParaRPr b="1" lang="en-US" sz="36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05228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os apuntes no son los dictados del profes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aprende a tomar apuntes de un día para el ot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bes darte la oportunidad de probar el siste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te desanimes, tomar apuntes se adquiere con la pr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ízate, ten presente que lo utilizarás hasta en la Universid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936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Tomar apuntes ..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8572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reforzar la atención sobre lo que dice el profes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a más allá de lo que dice el lib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alumno_en_aula_de_clase"/>
          <p:cNvPicPr/>
          <p:nvPr/>
        </p:nvPicPr>
        <p:blipFill>
          <a:blip r:embed="rId1"/>
          <a:stretch/>
        </p:blipFill>
        <p:spPr>
          <a:xfrm>
            <a:off x="6516720" y="4508640"/>
            <a:ext cx="223200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31376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fijarnos en detalles que más tarde seremos capaces de record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umenta la posibilidad de obtener mejores nota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examen-egel-239x300"/>
          <p:cNvPicPr/>
          <p:nvPr/>
        </p:nvPicPr>
        <p:blipFill>
          <a:blip r:embed="rId1"/>
          <a:stretch/>
        </p:blipFill>
        <p:spPr>
          <a:xfrm>
            <a:off x="6877080" y="4076640"/>
            <a:ext cx="182736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¿Qué es tomar apuntes?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el acto de anotar los puntos más saltantes de un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una actividad que apoya el estudio y el aprendizaj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7" descr="nino"/>
          <p:cNvPicPr/>
          <p:nvPr/>
        </p:nvPicPr>
        <p:blipFill>
          <a:blip r:embed="rId1"/>
          <a:stretch/>
        </p:blipFill>
        <p:spPr>
          <a:xfrm>
            <a:off x="5796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 mantiene activo en l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ejora la memoriza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uy útil para el repas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20070417klplyllec_220"/>
          <p:cNvPicPr/>
          <p:nvPr/>
        </p:nvPicPr>
        <p:blipFill>
          <a:blip r:embed="rId1"/>
          <a:stretch/>
        </p:blipFill>
        <p:spPr>
          <a:xfrm>
            <a:off x="6084720" y="4579920"/>
            <a:ext cx="27370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arrolla el hábito de sintetizar o resumi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retomar la explicación del maest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seleccionar lo más importante de un. 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l comenzar la cl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76360" y="2060640"/>
            <a:ext cx="7313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iéntate en un lugar cerca al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vita las distrac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dopta una postura adecu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071800" y="1571760"/>
            <a:ext cx="6551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ideraciones al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mar apuntes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Organización 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egibilid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rd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impie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0:51:52Z</dcterms:created>
  <dc:creator>computoprim</dc:creator>
  <dc:description/>
  <dc:language>en-US</dc:language>
  <cp:lastModifiedBy>User</cp:lastModifiedBy>
  <dcterms:modified xsi:type="dcterms:W3CDTF">2020-03-23T18:26:19Z</dcterms:modified>
  <cp:revision>19</cp:revision>
  <dc:subject/>
  <dc:title>Como tomar apu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